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EFF1-F374-45DB-BE4D-D76DD739B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4039-E63F-45C7-8891-693A3E2B73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947-4C1C-41D5-B796-7F669B89A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590840" y="762120"/>
            <a:ext cx="3531960" cy="2649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320840" y="3733920"/>
            <a:ext cx="4116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245-F06E-4D96-942A-E8975ABFA0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590840" y="762120"/>
            <a:ext cx="3531960" cy="2649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20840" y="3733920"/>
            <a:ext cx="4116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DD9-2360-4DD6-8D75-4E3E36570B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590840" y="762120"/>
            <a:ext cx="3531960" cy="2649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20840" y="3733920"/>
            <a:ext cx="4116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3DEC-5EA2-4B44-B2AA-E1B85A612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F350-00F9-41B0-953F-30DF6D46B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EC6E-BABD-483E-B4CE-8C66E80EF9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A672-E0CB-42E3-A3EF-03218C1216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6CEF-4896-4BED-989D-3519838A12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04EA-B3F0-4D4B-B219-D5820A825A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ACE4-9F87-4323-B112-1B45018960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eadership Mat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ring Harvest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249AE2DF-85A6-4278-99E0-1AAA30B31487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9BBE-6625-4BD4-B265-1F03D936B7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505-F4EB-47F1-8347-57C9585312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A022-11B1-4D87-BC23-3C08A916E8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526C-EA3B-458C-B2CE-31E5C8541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AD6C-E829-43FB-BD4D-4269B388B6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868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868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764D65D7-CD09-4CFD-990A-2C9ACBB8D23F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ession 1 Slide </a:t>
            </a:r>
            <a:fld id="{1FE92CC7-AF2D-44E0-AAD8-99E0A8404F15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99692C85-7FBE-4147-AD00-CBF7403AA4E1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15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15640" y="838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1160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Slide </a:t>
            </a:r>
            <a:fld id="{D2F806C1-BE67-43AA-8E8E-CF60B7CF09B5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202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207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209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1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9" descr="MPj04223260000[1]"/>
          <p:cNvPicPr/>
          <p:nvPr/>
        </p:nvPicPr>
        <p:blipFill>
          <a:blip r:embed="rId1"/>
          <a:stretch/>
        </p:blipFill>
        <p:spPr>
          <a:xfrm>
            <a:off x="1465200" y="1749600"/>
            <a:ext cx="2784600" cy="41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20" descr="MPj04265600000[1]"/>
          <p:cNvPicPr/>
          <p:nvPr/>
        </p:nvPicPr>
        <p:blipFill>
          <a:blip r:embed="rId2"/>
          <a:srcRect l="0" t="0" r="38318" b="8105"/>
          <a:stretch/>
        </p:blipFill>
        <p:spPr>
          <a:xfrm>
            <a:off x="4849920" y="885960"/>
            <a:ext cx="2801880" cy="41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Text Box 21"/>
          <p:cNvSpPr/>
          <p:nvPr/>
        </p:nvSpPr>
        <p:spPr>
          <a:xfrm>
            <a:off x="1393920" y="620640"/>
            <a:ext cx="2952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005586"/>
                </a:solidFill>
                <a:latin typeface="Franklin Gothic Medium"/>
                <a:ea typeface="Tahoma"/>
              </a:rPr>
              <a:t>UNDER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4716360" y="5072040"/>
            <a:ext cx="32403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005586"/>
                </a:solidFill>
                <a:latin typeface="Franklin Gothic Medium"/>
                <a:ea typeface="Tahoma"/>
              </a:rPr>
              <a:t>PRESSUR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7"/>
          <p:cNvSpPr/>
          <p:nvPr/>
        </p:nvSpPr>
        <p:spPr>
          <a:xfrm>
            <a:off x="1403280" y="404640"/>
            <a:ext cx="5977080" cy="5977080"/>
          </a:xfrm>
          <a:prstGeom prst="ellipse">
            <a:avLst/>
          </a:prstGeom>
          <a:solidFill>
            <a:srgbClr val="57ab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655720" y="1722600"/>
            <a:ext cx="3313440" cy="3313080"/>
          </a:xfrm>
          <a:prstGeom prst="ellipse">
            <a:avLst/>
          </a:prstGeom>
          <a:solidFill>
            <a:srgbClr val="eb6d2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3419640" y="2492280"/>
            <a:ext cx="1800000" cy="1800360"/>
          </a:xfrm>
          <a:prstGeom prst="ellipse">
            <a:avLst/>
          </a:prstGeom>
          <a:solidFill>
            <a:srgbClr val="004d9b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34800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348000" y="551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2" descr="MPj03211970000[1]"/>
          <p:cNvPicPr/>
          <p:nvPr/>
        </p:nvPicPr>
        <p:blipFill>
          <a:blip r:embed="rId1"/>
          <a:stretch/>
        </p:blipFill>
        <p:spPr>
          <a:xfrm>
            <a:off x="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3635280" y="2349360"/>
            <a:ext cx="4896000" cy="1160280"/>
          </a:xfrm>
          <a:prstGeom prst="rect">
            <a:avLst/>
          </a:prstGeom>
          <a:solidFill>
            <a:srgbClr val="f36c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005586"/>
                </a:solidFill>
                <a:latin typeface="Franklin Gothic Medium"/>
              </a:rPr>
              <a:t>CULTUR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63640" y="3716280"/>
            <a:ext cx="6769080" cy="116028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36c23"/>
                </a:solidFill>
                <a:latin typeface="Franklin Gothic Medium"/>
              </a:rPr>
              <a:t>TEMPERAMEN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5640" y="838080"/>
            <a:ext cx="7201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PATTERN OF SPIRITUAL LIF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Sustainable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 – for the long hau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Practical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 – in the everyda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Life-giving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 – relevant to all of your lif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Releasing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 – not guilt-inducing</a:t>
            </a: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ranklin Gothic Book"/>
              </a:rPr>
              <a:t>Authentic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 – to who you a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-541440" y="5946840"/>
            <a:ext cx="1225800" cy="121428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8688240" y="339840"/>
            <a:ext cx="911520" cy="92232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1868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1868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0" name="Picture 4" descr="MPj03999520000[1]"/>
          <p:cNvPicPr/>
          <p:nvPr/>
        </p:nvPicPr>
        <p:blipFill>
          <a:blip r:embed="rId1"/>
          <a:srcRect l="3866" t="0" r="7013" b="0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Text Box 5"/>
          <p:cNvSpPr/>
          <p:nvPr/>
        </p:nvSpPr>
        <p:spPr>
          <a:xfrm>
            <a:off x="396720" y="220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Rel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5418000" y="7491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Activ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041640" y="3888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Contemp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30360" y="76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11280" y="141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Intel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6156360" y="141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6875640" y="2205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</a:rPr>
              <a:t>W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482840" y="5684760"/>
            <a:ext cx="64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ACRED PATH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1868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1868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j0178537"/>
          <p:cNvPicPr/>
          <p:nvPr/>
        </p:nvPicPr>
        <p:blipFill>
          <a:blip r:embed="rId1"/>
          <a:srcRect l="0" t="0" r="10876" b="0"/>
          <a:stretch/>
        </p:blipFill>
        <p:spPr>
          <a:xfrm>
            <a:off x="415800" y="312840"/>
            <a:ext cx="8312400" cy="6249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173628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4000" y="2808000"/>
            <a:ext cx="824364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12: Strategic plan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84" name="Group 18"/>
          <p:cNvGrpSpPr/>
          <p:nvPr/>
        </p:nvGrpSpPr>
        <p:grpSpPr>
          <a:xfrm>
            <a:off x="6254640" y="0"/>
            <a:ext cx="2781360" cy="6858000"/>
            <a:chOff x="6254640" y="0"/>
            <a:chExt cx="2781360" cy="6858000"/>
          </a:xfrm>
        </p:grpSpPr>
        <p:pic>
          <p:nvPicPr>
            <p:cNvPr id="285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25464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1292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64056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405160" y="692280"/>
            <a:ext cx="4321080" cy="43225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89600" y="4005360"/>
            <a:ext cx="2354400" cy="28526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67816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provide an opportunity for participants to reconnect and to review how they are getting on in their leadership rol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stimulate one another to keep on ‘leading diligently’ (Romans 12:8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address an additional aspect of leadership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539640" y="2303640"/>
            <a:ext cx="56167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1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irm foundations for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2 </a:t>
            </a:r>
            <a:r>
              <a:rPr b="0" lang="en-GB" sz="2800" spc="-1" strike="noStrike">
                <a:solidFill>
                  <a:srgbClr val="ff650f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y skills of Christi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3 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eping faithful in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39640" y="121932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GROWING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Tahoma"/>
              </a:rPr>
              <a:t> 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219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2240" y="196920"/>
            <a:ext cx="8748720" cy="6472080"/>
          </a:xfrm>
          <a:prstGeom prst="rect">
            <a:avLst/>
          </a:prstGeom>
          <a:solidFill>
            <a:srgbClr val="95cc48"/>
          </a:solidFill>
          <a:ln w="9360">
            <a:solidFill>
              <a:srgbClr val="95cc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429000" y="297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1906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116680" y="4800600"/>
            <a:ext cx="23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42900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6300720" y="20001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87360" y="45720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Arrow Connector 5"/>
          <p:cNvCxnSpPr/>
          <p:nvPr/>
        </p:nvCxnSpPr>
        <p:spPr>
          <a:xfrm flipH="1">
            <a:off x="2771280" y="3697200"/>
            <a:ext cx="1315440" cy="77400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232" name="Straight Arrow Connector 24"/>
          <p:cNvCxnSpPr/>
          <p:nvPr/>
        </p:nvCxnSpPr>
        <p:spPr>
          <a:xfrm>
            <a:off x="5094000" y="3715920"/>
            <a:ext cx="1253160" cy="78516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233" name="Straight Arrow Connector 31"/>
          <p:cNvCxnSpPr/>
          <p:nvPr/>
        </p:nvCxnSpPr>
        <p:spPr>
          <a:xfrm flipV="1">
            <a:off x="4554000" y="1382400"/>
            <a:ext cx="24840" cy="146592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sp>
        <p:nvSpPr>
          <p:cNvPr id="234" name="Text Box 12"/>
          <p:cNvSpPr/>
          <p:nvPr/>
        </p:nvSpPr>
        <p:spPr>
          <a:xfrm>
            <a:off x="4041360" y="4538520"/>
            <a:ext cx="109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u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3"/>
          <p:cNvSpPr/>
          <p:nvPr/>
        </p:nvSpPr>
        <p:spPr>
          <a:xfrm rot="3449400">
            <a:off x="5103000" y="2735640"/>
            <a:ext cx="1267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red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 rot="18157200">
            <a:off x="2768400" y="2663280"/>
            <a:ext cx="139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nf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561440" cy="34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6d21"/>
                </a:solidFill>
                <a:latin typeface="Franklin Gothic Medium"/>
              </a:rPr>
              <a:t>SESSION 11</a:t>
            </a:r>
            <a:r>
              <a:rPr b="0" lang="en-GB" sz="6000" spc="-1" strike="noStrike">
                <a:solidFill>
                  <a:srgbClr val="eb6d21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SPIRITUAL DYNAMICS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38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CG121"/>
          <p:cNvPicPr/>
          <p:nvPr/>
        </p:nvPicPr>
        <p:blipFill>
          <a:blip r:embed="rId1"/>
          <a:stretch/>
        </p:blipFill>
        <p:spPr>
          <a:xfrm>
            <a:off x="900000" y="907920"/>
            <a:ext cx="719928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49440" y="1052640"/>
            <a:ext cx="539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THE SPIRITUAL LIFE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49440" y="219564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o are your heroes and heroines of the Christian faith? (They don’t have to be well known.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3" name="Picture 5" descr="j0401828"/>
          <p:cNvPicPr/>
          <p:nvPr/>
        </p:nvPicPr>
        <p:blipFill>
          <a:blip r:embed="rId1"/>
          <a:srcRect l="5482" t="0" r="27339" b="0"/>
          <a:stretch/>
        </p:blipFill>
        <p:spPr>
          <a:xfrm>
            <a:off x="338040" y="311040"/>
            <a:ext cx="2793960" cy="6235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338040" y="311040"/>
            <a:ext cx="8481960" cy="6235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6351480" cy="13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COLOSSIANS 1:15-23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God 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reveals</a:t>
            </a: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imself to u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God 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reconciles</a:t>
            </a: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us to him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God </a:t>
            </a: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relates</a:t>
            </a:r>
            <a:r>
              <a:rPr b="0" lang="en-GB" sz="3200" spc="-1" strike="noStrike">
                <a:solidFill>
                  <a:srgbClr val="eb6d21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us, and wants us to relate to hi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7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5651640" y="4195800"/>
            <a:ext cx="2552400" cy="2041560"/>
          </a:xfrm>
          <a:prstGeom prst="rect">
            <a:avLst/>
          </a:prstGeom>
          <a:ln w="0">
            <a:noFill/>
          </a:ln>
        </p:spPr>
      </p:pic>
      <p:sp>
        <p:nvSpPr>
          <p:cNvPr id="248" name="Oval 5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0" y="838080"/>
            <a:ext cx="457200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REFRESHMENT TIME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51" name="Picture 5" descr="MPj03416080000[1]"/>
          <p:cNvPicPr/>
          <p:nvPr/>
        </p:nvPicPr>
        <p:blipFill>
          <a:blip r:embed="rId1"/>
          <a:stretch/>
        </p:blipFill>
        <p:spPr>
          <a:xfrm>
            <a:off x="395280" y="620640"/>
            <a:ext cx="4008600" cy="56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8-07T14:50:32Z</dcterms:modified>
  <cp:revision>52</cp:revision>
  <dc:subject/>
  <dc:title>PowerPoint Presentation</dc:title>
</cp:coreProperties>
</file>