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F0B3-5E81-44FA-9B6E-EB84F69399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4B1-0404-4D16-A482-CBAD055324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0C24-0CEF-4FC0-B267-9EB722ED3B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1E0-2F21-4D55-96B4-8A143FFC69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FC51-3EF1-4EFE-90EE-C116B7B6EB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7AF-3FFE-439E-8542-2E57C0D791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12256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8E52-E237-4F1F-A938-92A2065DA9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3B61-B56C-481D-A9CC-A749894B57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A39D-8C73-408D-A036-F97F7851D0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9643-23DB-4EFF-BD0D-5DF9B165759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3573-4CFB-4E0A-B5FF-E3D385FA13E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DFE-4EF0-4D21-AEA6-475BD0F437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08A8-DE92-4E92-A118-02C4D2CE96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91B-6E4D-4DFE-BE3E-88F5BEF916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E91C-E200-4275-86FA-29E625DFD3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0C781-D8DA-4AAF-98FE-6FD7FA47E5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Leadership Mat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ring Harvest 200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B8E251CC-F2D4-4DF5-A2FF-280F9AC6A1B1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EA6E-6B96-4C99-BC90-8C71007C90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5FEB-BB94-4EF8-B493-CAE90D3D8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254-7035-4ED1-ADEF-DA626231E3F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’s be st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 this time of the year when we often reflect on new starts, remind ourselves of God who is with 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G He is L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AD Ephesians 3:14-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DEO So easy to forget what it is all about. May remember read the lifeboat story, want to show it you as a remin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5C6D-DEE3-4F03-BE42-588BB34D02B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IDEO lifeboat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Corporate Vi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ing: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LP 7: Res 2 Oct 200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66B3BFC8-F996-45CF-9527-553F48BC04FA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122560" y="763560"/>
            <a:ext cx="2552760" cy="19144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2895480"/>
            <a:ext cx="4952880" cy="64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8411-FD32-46EA-8E2E-F09EF9C476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582560" y="685800"/>
            <a:ext cx="3629160" cy="27208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5480" y="3657600"/>
            <a:ext cx="4962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676520" y="838080"/>
            <a:ext cx="67816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693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62560" y="198108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67652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9693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262560" y="413064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1600" y="413064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1600" y="1981080"/>
            <a:ext cx="3309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520" y="4130640"/>
            <a:ext cx="6781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034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034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0D980198-2852-413C-8B4C-ACA136911661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ession 1 Slide </a:t>
            </a:r>
            <a:fld id="{EF87AE15-4D4B-498E-80C0-46B896541329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52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Text Box 39"/>
          <p:cNvSpPr/>
          <p:nvPr/>
        </p:nvSpPr>
        <p:spPr>
          <a:xfrm>
            <a:off x="6948360" y="6583320"/>
            <a:ext cx="211932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Slide </a:t>
            </a:r>
            <a:fld id="{391237EC-8C89-487E-A384-1E1A4253C883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15640" y="2133360"/>
            <a:ext cx="70102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15640" y="8380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116000" y="19080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Slide </a:t>
            </a:r>
            <a:fld id="{856DA469-42B7-49FC-859F-5BEA2925FB6F}" type="slidenum">
              <a:rPr b="0" lang="en-GB" sz="1000" spc="-1" strike="noStrike">
                <a:solidFill>
                  <a:srgbClr val="005586"/>
                </a:solidFill>
                <a:latin typeface="Franklin Gothic Book"/>
                <a:ea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202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207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209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1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034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3" name="Picture 4" descr="j0387296"/>
          <p:cNvPicPr/>
          <p:nvPr/>
        </p:nvPicPr>
        <p:blipFill>
          <a:blip r:embed="rId1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724360" y="1125360"/>
            <a:ext cx="3194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Franklin Gothic Book"/>
              </a:rPr>
              <a:t>IT’S THAT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Franklin Gothic Book"/>
              </a:rPr>
              <a:t>TIME AGAIN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5" descr="j0403694"/>
          <p:cNvPicPr/>
          <p:nvPr/>
        </p:nvPicPr>
        <p:blipFill>
          <a:blip r:embed="rId1"/>
          <a:stretch/>
        </p:blipFill>
        <p:spPr>
          <a:xfrm>
            <a:off x="363600" y="311040"/>
            <a:ext cx="4984560" cy="623592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"/>
          <p:cNvSpPr/>
          <p:nvPr/>
        </p:nvSpPr>
        <p:spPr>
          <a:xfrm>
            <a:off x="363600" y="311040"/>
            <a:ext cx="83851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MPj04012890000[1]"/>
          <p:cNvPicPr/>
          <p:nvPr/>
        </p:nvPicPr>
        <p:blipFill>
          <a:blip r:embed="rId1"/>
          <a:srcRect l="5620" t="0" r="5260" b="0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85640" y="395280"/>
            <a:ext cx="395928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WHAT STOPS US FULFILLING GOD’S VISION?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080" y="2411280"/>
            <a:ext cx="7010280" cy="35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Apath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Belie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7467480" y="0"/>
            <a:ext cx="1676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2036880" y="123048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586"/>
                </a:solidFill>
                <a:latin typeface="Franklin Gothic Book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5003640" y="1230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586"/>
                </a:solidFill>
                <a:latin typeface="Franklin Gothic Book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3471840" y="16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5586"/>
                </a:solidFill>
                <a:latin typeface="Franklin Gothic Book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6"/>
          <p:cNvSpPr/>
          <p:nvPr/>
        </p:nvSpPr>
        <p:spPr>
          <a:xfrm>
            <a:off x="4267080" y="685800"/>
            <a:ext cx="0" cy="609480"/>
          </a:xfrm>
          <a:prstGeom prst="line">
            <a:avLst/>
          </a:prstGeom>
          <a:ln w="38160">
            <a:solidFill>
              <a:srgbClr val="57ab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3635280" y="1535040"/>
            <a:ext cx="1219320" cy="0"/>
          </a:xfrm>
          <a:prstGeom prst="line">
            <a:avLst/>
          </a:prstGeom>
          <a:ln w="38160">
            <a:solidFill>
              <a:srgbClr val="57ab2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8"/>
          <p:cNvSpPr/>
          <p:nvPr/>
        </p:nvSpPr>
        <p:spPr>
          <a:xfrm>
            <a:off x="1692360" y="115920"/>
            <a:ext cx="5056200" cy="2035080"/>
          </a:xfrm>
          <a:prstGeom prst="ellipse">
            <a:avLst/>
          </a:prstGeom>
          <a:noFill/>
          <a:ln w="38160">
            <a:solidFill>
              <a:srgbClr val="f36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6985080" y="836640"/>
            <a:ext cx="1547640" cy="520560"/>
          </a:xfrm>
          <a:prstGeom prst="rect">
            <a:avLst/>
          </a:prstGeom>
          <a:solidFill>
            <a:srgbClr val="f36c2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1474920" y="260280"/>
            <a:ext cx="6265800" cy="6265800"/>
          </a:xfrm>
          <a:prstGeom prst="ellipse">
            <a:avLst/>
          </a:pr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"/>
          <p:cNvSpPr/>
          <p:nvPr/>
        </p:nvSpPr>
        <p:spPr>
          <a:xfrm>
            <a:off x="2122560" y="974880"/>
            <a:ext cx="5041800" cy="4903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2843280" y="1665360"/>
            <a:ext cx="3529080" cy="35290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3743280" y="2602080"/>
            <a:ext cx="1655640" cy="165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Belief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klin Gothic Book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WordArt 6"/>
          <p:cNvSpPr txBox="1"/>
          <p:nvPr/>
        </p:nvSpPr>
        <p:spPr>
          <a:xfrm rot="180000">
            <a:off x="3313080" y="2168640"/>
            <a:ext cx="2698920" cy="208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anklin Gothic Book"/>
              </a:rPr>
              <a:t>Symbols and ritu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anklin Gothic Book"/>
              <a:ea typeface="Franklin Gothic Book"/>
            </a:endParaRPr>
          </a:p>
        </p:txBody>
      </p:sp>
      <p:sp>
        <p:nvSpPr>
          <p:cNvPr id="304" name="WordArt 7"/>
          <p:cNvSpPr txBox="1"/>
          <p:nvPr/>
        </p:nvSpPr>
        <p:spPr>
          <a:xfrm rot="235200">
            <a:off x="3132000" y="1341000"/>
            <a:ext cx="3168720" cy="19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867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anklin Gothic Book"/>
              </a:rPr>
              <a:t>Stories and legend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anklin Gothic Book"/>
              <a:ea typeface="Franklin Gothic Book"/>
            </a:endParaRPr>
          </a:p>
        </p:txBody>
      </p:sp>
      <p:sp>
        <p:nvSpPr>
          <p:cNvPr id="305" name="WordArt 8"/>
          <p:cNvSpPr txBox="1"/>
          <p:nvPr/>
        </p:nvSpPr>
        <p:spPr>
          <a:xfrm>
            <a:off x="3321000" y="622440"/>
            <a:ext cx="269892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593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Franklin Gothic Book"/>
              </a:rPr>
              <a:t>Behaviours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Franklin Gothic Book"/>
              <a:ea typeface="Franklin Gothic Book"/>
            </a:endParaRPr>
          </a:p>
        </p:txBody>
      </p:sp>
      <p:sp>
        <p:nvSpPr>
          <p:cNvPr id="306" name="AutoShape 9"/>
          <p:cNvSpPr/>
          <p:nvPr/>
        </p:nvSpPr>
        <p:spPr>
          <a:xfrm rot="1071000">
            <a:off x="5148360" y="3499920"/>
            <a:ext cx="2592360" cy="971640"/>
          </a:xfrm>
          <a:prstGeom prst="rightArrow">
            <a:avLst>
              <a:gd name="adj1" fmla="val 50000"/>
              <a:gd name="adj2" fmla="val 66701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0"/>
          <p:cNvSpPr/>
          <p:nvPr/>
        </p:nvSpPr>
        <p:spPr>
          <a:xfrm rot="1002600">
            <a:off x="5152680" y="3494160"/>
            <a:ext cx="2592360" cy="936720"/>
          </a:xfrm>
          <a:prstGeom prst="leftRightArrow">
            <a:avLst>
              <a:gd name="adj1" fmla="val 50000"/>
              <a:gd name="adj2" fmla="val 55093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1"/>
          <p:cNvSpPr/>
          <p:nvPr/>
        </p:nvSpPr>
        <p:spPr>
          <a:xfrm rot="955200">
            <a:off x="5075280" y="3428640"/>
            <a:ext cx="2592360" cy="936720"/>
          </a:xfrm>
          <a:prstGeom prst="leftArrow">
            <a:avLst>
              <a:gd name="adj1" fmla="val 50000"/>
              <a:gd name="adj2" fmla="val 6918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Non ex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216000" y="1916280"/>
            <a:ext cx="8820000" cy="3020040"/>
          </a:xfrm>
          <a:prstGeom prst="rect">
            <a:avLst/>
          </a:prstGeom>
          <a:solidFill>
            <a:srgbClr val="ff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Franklin Gothic Book"/>
              </a:rPr>
              <a:t>Culture eats strategy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MPj04012890000[1]"/>
          <p:cNvPicPr/>
          <p:nvPr/>
        </p:nvPicPr>
        <p:blipFill>
          <a:blip r:embed="rId1"/>
          <a:srcRect l="5620" t="0" r="5260" b="0"/>
          <a:stretch/>
        </p:blipFill>
        <p:spPr>
          <a:xfrm>
            <a:off x="404640" y="290520"/>
            <a:ext cx="8312400" cy="62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85720" y="331920"/>
            <a:ext cx="3888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Medium"/>
              </a:rPr>
              <a:t>WHAT STOPS US FULFILLING GOD’S VISION?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85720" y="2382840"/>
            <a:ext cx="7010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Apath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Belief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Franklin Gothic Book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585720" y="4183200"/>
            <a:ext cx="496908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Disagre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klin Gothic Medium"/>
              </a:rPr>
              <a:t>F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034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16" name="Picture 4" descr="MPj04330950000[1]"/>
          <p:cNvPicPr/>
          <p:nvPr/>
        </p:nvPicPr>
        <p:blipFill>
          <a:blip r:embed="rId1"/>
          <a:stretch/>
        </p:blipFill>
        <p:spPr>
          <a:xfrm>
            <a:off x="415800" y="312840"/>
            <a:ext cx="8312400" cy="6238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MPj04012890000[1]"/>
          <p:cNvPicPr/>
          <p:nvPr/>
        </p:nvPicPr>
        <p:blipFill>
          <a:blip r:embed="rId2"/>
          <a:srcRect l="5620" t="0" r="5260" b="0"/>
          <a:stretch/>
        </p:blipFill>
        <p:spPr>
          <a:xfrm>
            <a:off x="415800" y="316080"/>
            <a:ext cx="8312400" cy="6235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034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034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20" name="Picture 4" descr="j0387296"/>
          <p:cNvPicPr/>
          <p:nvPr/>
        </p:nvPicPr>
        <p:blipFill>
          <a:blip r:embed="rId1"/>
          <a:stretch/>
        </p:blipFill>
        <p:spPr>
          <a:xfrm>
            <a:off x="415800" y="282600"/>
            <a:ext cx="8312400" cy="623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Pj04096790000[1]"/>
          <p:cNvPicPr/>
          <p:nvPr/>
        </p:nvPicPr>
        <p:blipFill>
          <a:blip r:embed="rId1"/>
          <a:stretch/>
        </p:blipFill>
        <p:spPr>
          <a:xfrm>
            <a:off x="353880" y="311040"/>
            <a:ext cx="4146840" cy="623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2" name="Text Box 3"/>
          <p:cNvSpPr/>
          <p:nvPr/>
        </p:nvSpPr>
        <p:spPr>
          <a:xfrm>
            <a:off x="4716360" y="1054080"/>
            <a:ext cx="421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  <a:ea typeface="Tahoma"/>
              </a:rPr>
              <a:t>COMMUNICATION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751280" y="2565360"/>
            <a:ext cx="40323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Neglect problem- ca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Neglect two th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buClr>
                <a:srgbClr val="004d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Tahoma"/>
              </a:rPr>
              <a:t>Neglect 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353880" y="311040"/>
            <a:ext cx="84661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9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4930920" y="3070080"/>
            <a:ext cx="2305080" cy="2305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625840" y="3070080"/>
            <a:ext cx="2305080" cy="23050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2625840" y="763560"/>
            <a:ext cx="2305080" cy="23050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4930920" y="765000"/>
            <a:ext cx="2305080" cy="230508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049480" y="5373720"/>
            <a:ext cx="5546880" cy="576360"/>
          </a:xfrm>
          <a:custGeom>
            <a:avLst/>
            <a:gdLst>
              <a:gd name="textAreaLeft" fmla="*/ 0 w 5546880"/>
              <a:gd name="textAreaRight" fmla="*/ 5547240 w 5546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0" y="0"/>
                </a:lnTo>
                <a:lnTo>
                  <a:pt x="21600" y="10800"/>
                </a:lnTo>
                <a:lnTo>
                  <a:pt x="20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all to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 rot="16200000">
            <a:off x="-147240" y="2601360"/>
            <a:ext cx="4970520" cy="576360"/>
          </a:xfrm>
          <a:custGeom>
            <a:avLst/>
            <a:gdLst>
              <a:gd name="textAreaLeft" fmla="*/ 0 w 4970520"/>
              <a:gd name="textAreaRight" fmla="*/ 4970880 w 49705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00" y="0"/>
                </a:lnTo>
                <a:lnTo>
                  <a:pt x="21600" y="10800"/>
                </a:lnTo>
                <a:lnTo>
                  <a:pt x="20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Sense of 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698920" y="4062240"/>
            <a:ext cx="201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075280" y="40622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Scep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5075280" y="170028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Insp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2627280" y="1700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ranklin Gothic Book"/>
              </a:rPr>
              <a:t>Frust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 rot="16200000">
            <a:off x="1020960" y="71532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2049480" y="592452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4"/>
          <p:cNvSpPr/>
          <p:nvPr/>
        </p:nvSpPr>
        <p:spPr>
          <a:xfrm>
            <a:off x="6226200" y="595008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5"/>
          <p:cNvSpPr/>
          <p:nvPr/>
        </p:nvSpPr>
        <p:spPr>
          <a:xfrm rot="16200000">
            <a:off x="1136880" y="503496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539640" y="2303640"/>
            <a:ext cx="56167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1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irm foundations for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2 </a:t>
            </a:r>
            <a:r>
              <a:rPr b="0" lang="en-GB" sz="2800" spc="-1" strike="noStrike">
                <a:solidFill>
                  <a:srgbClr val="ff650f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y skills of Christia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436680"/>
                <a:tab algn="l" pos="873000"/>
                <a:tab algn="l" pos="1309680"/>
                <a:tab algn="l" pos="1746360"/>
                <a:tab algn="l" pos="2182680"/>
                <a:tab algn="l" pos="2619360"/>
                <a:tab algn="l" pos="3056040"/>
                <a:tab algn="l" pos="3492360"/>
                <a:tab algn="l" pos="3929040"/>
                <a:tab algn="l" pos="4365720"/>
                <a:tab algn="l" pos="4802040"/>
                <a:tab algn="l" pos="5238720"/>
                <a:tab algn="l" pos="5675400"/>
                <a:tab algn="l" pos="6111720"/>
                <a:tab algn="l" pos="6548400"/>
                <a:tab algn="l" pos="6985080"/>
                <a:tab algn="l" pos="7421400"/>
                <a:tab algn="l" pos="7858080"/>
                <a:tab algn="l" pos="8294760"/>
                <a:tab algn="l" pos="873108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Part 3 </a:t>
            </a:r>
            <a:r>
              <a:rPr b="0" lang="en-GB" sz="2800" spc="-1" strike="noStrike">
                <a:solidFill>
                  <a:srgbClr val="002c85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Keeping faithful in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hristian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3"/>
          <p:cNvSpPr/>
          <p:nvPr/>
        </p:nvSpPr>
        <p:spPr>
          <a:xfrm>
            <a:off x="539640" y="1219320"/>
            <a:ext cx="55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GROWING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Tahoma"/>
              </a:rPr>
              <a:t> </a:t>
            </a:r>
            <a:r>
              <a:rPr b="0" lang="en-GB" sz="44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18"/>
          <p:cNvGrpSpPr/>
          <p:nvPr/>
        </p:nvGrpSpPr>
        <p:grpSpPr>
          <a:xfrm>
            <a:off x="6156360" y="0"/>
            <a:ext cx="2781360" cy="6858000"/>
            <a:chOff x="6156360" y="0"/>
            <a:chExt cx="2781360" cy="6858000"/>
          </a:xfrm>
        </p:grpSpPr>
        <p:pic>
          <p:nvPicPr>
            <p:cNvPr id="21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56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14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42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6000" y="8380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COMMUNICATION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600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nformation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- what is it about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63600" indent="-36360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agination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- why I should be involved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63600" indent="-36360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nspiration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- why I want to be involved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63600" indent="-36360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nstruction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- how I can be involved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63600" indent="-36360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Franklin Gothic Book"/>
              </a:rPr>
              <a:t>Immediacy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- what can I do now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000" y="173628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4000" y="2808000"/>
            <a:ext cx="824364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13: Finding rhythm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45" name="Group 18"/>
          <p:cNvGrpSpPr/>
          <p:nvPr/>
        </p:nvGrpSpPr>
        <p:grpSpPr>
          <a:xfrm>
            <a:off x="6254640" y="0"/>
            <a:ext cx="2781360" cy="6858000"/>
            <a:chOff x="6254640" y="0"/>
            <a:chExt cx="2781360" cy="6858000"/>
          </a:xfrm>
        </p:grpSpPr>
        <p:pic>
          <p:nvPicPr>
            <p:cNvPr id="34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25464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1292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64056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2405160" y="692280"/>
            <a:ext cx="4321080" cy="4322520"/>
          </a:xfrm>
          <a:prstGeom prst="rect">
            <a:avLst/>
          </a:prstGeom>
          <a:ln w="0">
            <a:noFill/>
          </a:ln>
        </p:spPr>
      </p:pic>
      <p:sp>
        <p:nvSpPr>
          <p:cNvPr id="351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192240" y="196920"/>
            <a:ext cx="8748720" cy="6472080"/>
          </a:xfrm>
          <a:prstGeom prst="rect">
            <a:avLst/>
          </a:prstGeom>
          <a:solidFill>
            <a:srgbClr val="95cc48"/>
          </a:solidFill>
          <a:ln w="9360">
            <a:solidFill>
              <a:srgbClr val="95cc4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2c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429000" y="2978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1906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5116680" y="4800600"/>
            <a:ext cx="23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342900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300720" y="2000160"/>
            <a:ext cx="25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  <a:ea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387360" y="45720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Medium"/>
                <a:ea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Straight Arrow Connector 5"/>
          <p:cNvCxnSpPr/>
          <p:nvPr/>
        </p:nvCxnSpPr>
        <p:spPr>
          <a:xfrm flipH="1">
            <a:off x="2771280" y="3697200"/>
            <a:ext cx="1315440" cy="77400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229" name="Straight Arrow Connector 24"/>
          <p:cNvCxnSpPr/>
          <p:nvPr/>
        </p:nvCxnSpPr>
        <p:spPr>
          <a:xfrm>
            <a:off x="5094000" y="3715920"/>
            <a:ext cx="1253160" cy="78516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cxnSp>
        <p:nvCxnSpPr>
          <p:cNvPr id="230" name="Straight Arrow Connector 31"/>
          <p:cNvCxnSpPr/>
          <p:nvPr/>
        </p:nvCxnSpPr>
        <p:spPr>
          <a:xfrm flipV="1">
            <a:off x="4554000" y="1382400"/>
            <a:ext cx="24840" cy="1465920"/>
          </a:xfrm>
          <a:prstGeom prst="straightConnector1">
            <a:avLst/>
          </a:prstGeom>
          <a:ln w="38160">
            <a:solidFill>
              <a:srgbClr val="005586"/>
            </a:solidFill>
            <a:miter/>
            <a:tailEnd len="med" type="triangle" w="med"/>
          </a:ln>
        </p:spPr>
      </p:cxnSp>
      <p:sp>
        <p:nvSpPr>
          <p:cNvPr id="231" name="Text Box 12"/>
          <p:cNvSpPr/>
          <p:nvPr/>
        </p:nvSpPr>
        <p:spPr>
          <a:xfrm>
            <a:off x="4041360" y="4538520"/>
            <a:ext cx="1098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u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3"/>
          <p:cNvSpPr/>
          <p:nvPr/>
        </p:nvSpPr>
        <p:spPr>
          <a:xfrm rot="3449400">
            <a:off x="5103000" y="2735640"/>
            <a:ext cx="1267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redi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4"/>
          <p:cNvSpPr/>
          <p:nvPr/>
        </p:nvSpPr>
        <p:spPr>
          <a:xfrm rot="18157200">
            <a:off x="2768400" y="2663280"/>
            <a:ext cx="1393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5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c85"/>
                </a:solidFill>
                <a:latin typeface="Franklin Gothic Medium"/>
                <a:ea typeface="Arial"/>
              </a:rPr>
              <a:t>Confid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280" y="1155600"/>
            <a:ext cx="7543800" cy="31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36c23"/>
                </a:solidFill>
                <a:latin typeface="Franklin Gothic Medium"/>
              </a:rPr>
              <a:t>SESSION 12</a:t>
            </a:r>
            <a:r>
              <a:rPr b="0" lang="en-GB" sz="60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6000"/>
            </a:br>
            <a:r>
              <a:rPr b="0" lang="en-GB" sz="8000" spc="-1" strike="noStrike">
                <a:solidFill>
                  <a:srgbClr val="000000"/>
                </a:solidFill>
                <a:latin typeface="Franklin Gothic Medium"/>
              </a:rPr>
              <a:t>STRATEGIC PLANNING</a:t>
            </a:r>
            <a:endParaRPr b="0" lang="en-US" sz="8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35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C:\Users\jamesl\Pictures\Microsoft Clip Organizer\00398869.jpg"/>
          <p:cNvPicPr/>
          <p:nvPr/>
        </p:nvPicPr>
        <p:blipFill>
          <a:blip r:embed="rId1"/>
          <a:srcRect l="14623" t="4734" r="32508" b="5506"/>
          <a:stretch/>
        </p:blipFill>
        <p:spPr>
          <a:xfrm>
            <a:off x="7093080" y="4437000"/>
            <a:ext cx="1522440" cy="184464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640" y="1125000"/>
            <a:ext cx="6781680" cy="497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reconnect with one ano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review where we are in discerning God’s dir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identify why we don’t fulfil the vis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o explore communication as a key to good strategic planning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CH-017"/>
          <p:cNvPicPr/>
          <p:nvPr/>
        </p:nvPicPr>
        <p:blipFill>
          <a:blip r:embed="rId1"/>
          <a:stretch/>
        </p:blipFill>
        <p:spPr>
          <a:xfrm>
            <a:off x="415800" y="309600"/>
            <a:ext cx="8312400" cy="6237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5"/>
          <p:cNvSpPr/>
          <p:nvPr/>
        </p:nvSpPr>
        <p:spPr>
          <a:xfrm>
            <a:off x="1979640" y="112536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lace video from Sermon Spice here. See leaders’ guide for download inform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050920" y="1214280"/>
            <a:ext cx="18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889440" y="25257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5256360" y="121428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724200" y="1206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IDE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220920" y="3933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3203640" y="518796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8"/>
          <p:cNvSpPr/>
          <p:nvPr/>
        </p:nvSpPr>
        <p:spPr>
          <a:xfrm rot="16200000">
            <a:off x="1272240" y="404064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4d9b"/>
                </a:solidFill>
                <a:latin typeface="Franklin Gothic Medium"/>
              </a:rPr>
              <a:t>REVIEW/REV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3665520" y="2060640"/>
            <a:ext cx="604800" cy="388800"/>
          </a:xfrm>
          <a:prstGeom prst="line">
            <a:avLst/>
          </a:prstGeom>
          <a:ln w="5724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 flipH="1">
            <a:off x="4879800" y="2060640"/>
            <a:ext cx="562320" cy="388800"/>
          </a:xfrm>
          <a:prstGeom prst="line">
            <a:avLst/>
          </a:prstGeom>
          <a:ln w="5724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1036800"/>
            <a:ext cx="0" cy="304560"/>
          </a:xfrm>
          <a:prstGeom prst="line">
            <a:avLst/>
          </a:prstGeom>
          <a:ln w="5724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10374480" y="4102200"/>
            <a:ext cx="0" cy="533160"/>
          </a:xfrm>
          <a:prstGeom prst="line">
            <a:avLst/>
          </a:prstGeom>
          <a:ln w="3816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4572000" y="4724280"/>
            <a:ext cx="0" cy="433440"/>
          </a:xfrm>
          <a:prstGeom prst="line">
            <a:avLst/>
          </a:prstGeom>
          <a:ln w="5724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15"/>
          <p:cNvSpPr/>
          <p:nvPr/>
        </p:nvSpPr>
        <p:spPr>
          <a:xfrm>
            <a:off x="2506680" y="3332160"/>
            <a:ext cx="714240" cy="2647800"/>
          </a:xfrm>
          <a:custGeom>
            <a:avLst/>
            <a:gdLst>
              <a:gd name="textAreaLeft" fmla="*/ 0 w 714240"/>
              <a:gd name="textAreaRight" fmla="*/ 714600 w 714240"/>
              <a:gd name="textAreaTop" fmla="*/ 0 h 2647800"/>
              <a:gd name="textAreaBottom" fmla="*/ 2648160 h 2647800"/>
            </a:gdLst>
            <a:ahLst/>
            <a:rect l="textAreaLeft" t="textAreaTop" r="textAreaRight" b="textAreaBottom"/>
            <a:pathLst>
              <a:path w="1472" h="2448">
                <a:moveTo>
                  <a:pt x="1472" y="2448"/>
                </a:moveTo>
                <a:cubicBezTo>
                  <a:pt x="864" y="1908"/>
                  <a:pt x="256" y="1368"/>
                  <a:pt x="128" y="960"/>
                </a:cubicBezTo>
                <a:cubicBezTo>
                  <a:pt x="0" y="552"/>
                  <a:pt x="608" y="160"/>
                  <a:pt x="704" y="0"/>
                </a:cubicBezTo>
              </a:path>
            </a:pathLst>
          </a:custGeom>
          <a:noFill/>
          <a:ln w="38160">
            <a:solidFill>
              <a:srgbClr val="a4c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558720" y="457200"/>
            <a:ext cx="0" cy="5943600"/>
          </a:xfrm>
          <a:prstGeom prst="line">
            <a:avLst/>
          </a:prstGeom>
          <a:ln w="76320">
            <a:solidFill>
              <a:srgbClr val="eb6d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4920" y="257004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V="1">
            <a:off x="1116000" y="422280"/>
            <a:ext cx="0" cy="5943600"/>
          </a:xfrm>
          <a:prstGeom prst="line">
            <a:avLst/>
          </a:prstGeom>
          <a:ln w="76320">
            <a:solidFill>
              <a:srgbClr val="eb6d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620640" y="3089160"/>
            <a:ext cx="1035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d9b"/>
                </a:solidFill>
                <a:latin typeface="Franklin Gothic Medium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20"/>
          <p:cNvSpPr/>
          <p:nvPr/>
        </p:nvSpPr>
        <p:spPr>
          <a:xfrm>
            <a:off x="4575240" y="3567240"/>
            <a:ext cx="0" cy="366480"/>
          </a:xfrm>
          <a:prstGeom prst="line">
            <a:avLst/>
          </a:prstGeom>
          <a:ln w="57240">
            <a:solidFill>
              <a:srgbClr val="a4c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1"/>
          <p:cNvSpPr/>
          <p:nvPr/>
        </p:nvSpPr>
        <p:spPr>
          <a:xfrm>
            <a:off x="3951360" y="1484280"/>
            <a:ext cx="1218960" cy="0"/>
          </a:xfrm>
          <a:prstGeom prst="line">
            <a:avLst/>
          </a:prstGeom>
          <a:ln w="57240">
            <a:solidFill>
              <a:srgbClr val="a4c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21"/>
          <p:cNvSpPr/>
          <p:nvPr/>
        </p:nvSpPr>
        <p:spPr>
          <a:xfrm>
            <a:off x="3574440" y="5097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Box 22"/>
          <p:cNvSpPr/>
          <p:nvPr/>
        </p:nvSpPr>
        <p:spPr>
          <a:xfrm>
            <a:off x="1556280" y="159876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Why do we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845440" y="2967120"/>
            <a:ext cx="36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Where are we heading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2619360" y="5549760"/>
            <a:ext cx="38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How do we need to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organise oursel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3034440" y="4264200"/>
            <a:ext cx="34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How will we get the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4537080" y="1598760"/>
            <a:ext cx="313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How do we do th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1"/>
          <p:cNvSpPr/>
          <p:nvPr/>
        </p:nvSpPr>
        <p:spPr>
          <a:xfrm>
            <a:off x="6948360" y="2205000"/>
            <a:ext cx="2011320" cy="2011320"/>
          </a:xfrm>
          <a:prstGeom prst="ellipse">
            <a:avLst/>
          </a:prstGeom>
          <a:solidFill>
            <a:srgbClr val="95cc48"/>
          </a:solidFill>
          <a:ln w="9360">
            <a:solidFill>
              <a:srgbClr val="95cc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d9b"/>
                </a:solidFill>
                <a:latin typeface="Franklin Gothic Medium"/>
              </a:rPr>
              <a:t>INFLU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</a:rPr>
              <a:t>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</a:rPr>
              <a:t>Spirit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</a:rPr>
              <a:t>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Straight Arrow Connector 3"/>
          <p:cNvCxnSpPr/>
          <p:nvPr/>
        </p:nvCxnSpPr>
        <p:spPr>
          <a:xfrm flipH="1" flipV="1">
            <a:off x="6318000" y="3249000"/>
            <a:ext cx="630720" cy="13320"/>
          </a:xfrm>
          <a:prstGeom prst="straightConnector1">
            <a:avLst/>
          </a:prstGeom>
          <a:ln w="57240">
            <a:solidFill>
              <a:srgbClr val="95cc48"/>
            </a:solidFill>
            <a:miter/>
            <a:tailEnd len="med" type="arrow" w="med"/>
          </a:ln>
        </p:spPr>
      </p:cxn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 rot="10800000">
            <a:off x="1403280" y="980640"/>
            <a:ext cx="6337440" cy="1136880"/>
          </a:xfrm>
          <a:custGeom>
            <a:avLst/>
            <a:gdLst>
              <a:gd name="textAreaLeft" fmla="*/ 1320120 w 6337440"/>
              <a:gd name="textAreaRight" fmla="*/ 5017320 w 6337440"/>
              <a:gd name="textAreaTop" fmla="*/ 236880 h 1136880"/>
              <a:gd name="textAreaBottom" fmla="*/ 900000 h 113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692360" y="2117880"/>
            <a:ext cx="5761080" cy="287964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1692360" y="4997520"/>
            <a:ext cx="5761080" cy="72072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765440" y="5141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onsi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800360" y="341316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ommunic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148360" y="51418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aptur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4502160" y="1432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elebr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4429080" y="34131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Conn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340000" y="143208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Franklin Gothic Book"/>
              </a:rPr>
              <a:t>D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24000" y="5084640"/>
            <a:ext cx="84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12"/>
          <p:cNvSpPr/>
          <p:nvPr/>
        </p:nvSpPr>
        <p:spPr>
          <a:xfrm rot="16200000">
            <a:off x="-883440" y="3083760"/>
            <a:ext cx="3709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586"/>
                </a:solidFill>
                <a:latin typeface="Franklin Gothic Book"/>
              </a:rPr>
              <a:t>Change it –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13"/>
          <p:cNvSpPr/>
          <p:nvPr/>
        </p:nvSpPr>
        <p:spPr>
          <a:xfrm rot="5400000">
            <a:off x="6080040" y="3708720"/>
            <a:ext cx="4070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5586"/>
                </a:solidFill>
                <a:latin typeface="Franklin Gothic Book"/>
              </a:rPr>
              <a:t>Change it – contin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7T15:04:55Z</dcterms:modified>
  <cp:revision>96</cp:revision>
  <dc:subject/>
  <dc:title>PowerPoint Presentation</dc:title>
</cp:coreProperties>
</file>