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FCB9-45AA-4D12-8ACD-BD973B1FEE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8D33-3CB1-4F45-B1E3-9D2A290423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9181-2F07-4C1D-AA8E-E6D2C5B0CD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8AEC-9198-4972-8905-B17CE29091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D598-B497-4954-9FE5-D65755EA54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79BC-E25B-4597-A577-77861EAC20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2939-E6F5-4D03-B72F-6D41E46BA0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49C6-4B1A-4B4A-A662-D5DC94CA0D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758A-DC91-4F4F-9FE0-17CA64BCCD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4D0C-A1C9-4245-A282-8F42A1475E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9160" cy="27208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6A38-8DB1-4741-960A-9B1156274E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9CD5-F797-4C7A-AF7C-510E90F2BB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FA0D-42E9-40AB-9808-6C29AD9737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5730-0708-425F-A0F4-7E80CEDFD7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81E3-94F7-4984-B38E-DC10BCD5F6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062D-C708-4F98-8952-71840272AF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5AFE-C50E-4FF0-9B1D-BA9321ECFD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55DD-153A-4A41-825F-D548674035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9F50-E880-455A-AEE4-2A15E1FC46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E319-E867-4701-A208-904761D957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Leadership Matters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: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ring Harvest 200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202C74C2-0D8D-4F4C-97D8-5271EADED385}" type="slidenum"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576440" y="826920"/>
            <a:ext cx="3722760" cy="27925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6480" y="3843360"/>
            <a:ext cx="49845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B0D3-47A4-4BA8-BC06-1185B31670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9106-3EE5-4539-ADDB-25B7D9C0CD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7720" cy="27208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345E-CE86-4F08-9565-97D725720E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15F4-2D4E-491B-825B-852E174A09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5FB0-B786-4347-A5C0-03B572EE25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CF26-FCC9-4844-ABD7-FA817F3C2E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43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43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991B5038-EE26-4A78-9798-450714A03ADF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Text Box 28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5586"/>
                </a:solidFill>
                <a:latin typeface="Franklin Gothic Book"/>
              </a:rPr>
              <a:t>Session 1 Slide </a:t>
            </a:r>
            <a:fld id="{88C676BE-AA56-4EBC-8640-637E086056D8}" type="slidenum">
              <a:rPr b="1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Text Box 39"/>
          <p:cNvSpPr/>
          <p:nvPr/>
        </p:nvSpPr>
        <p:spPr>
          <a:xfrm>
            <a:off x="6948360" y="6583320"/>
            <a:ext cx="21193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5586"/>
                </a:solidFill>
                <a:latin typeface="Franklin Gothic Book"/>
                <a:ea typeface="Arial"/>
              </a:rPr>
              <a:t>Slide </a:t>
            </a:r>
            <a:fld id="{6A5DF5C6-2137-4F31-9620-1EF0C8DC53DB}" type="slidenum">
              <a:rPr b="1" lang="en-GB" sz="1000" spc="-1" strike="noStrike">
                <a:solidFill>
                  <a:srgbClr val="005586"/>
                </a:solidFill>
                <a:latin typeface="Franklin Gothic Book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1868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31868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83EC3E19-53EF-49D8-A1C6-03E979E37B3B}" type="slidenum">
              <a:rPr b="1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116000" y="1908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  <a:ea typeface="Tahoma"/>
              </a:rPr>
              <a:t>Slide </a:t>
            </a:r>
            <a:fld id="{2D183BFD-8AFF-4BCF-9C75-A96EEE45AF9F}" type="slidenum">
              <a:rPr b="0" lang="en-GB" sz="1000" spc="-1" strike="noStrike">
                <a:solidFill>
                  <a:srgbClr val="005586"/>
                </a:solidFill>
                <a:latin typeface="Franklin Gothic Book"/>
                <a:ea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Text Box 39"/>
          <p:cNvSpPr/>
          <p:nvPr/>
        </p:nvSpPr>
        <p:spPr>
          <a:xfrm>
            <a:off x="6948360" y="6583320"/>
            <a:ext cx="21193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5586"/>
                </a:solidFill>
                <a:latin typeface="Franklin Gothic Book"/>
                <a:ea typeface="Arial"/>
              </a:rPr>
              <a:t>Slide </a:t>
            </a:r>
            <a:fld id="{3A0D45F1-A9B9-4FCF-9C89-C749CB8CE15A}" type="slidenum">
              <a:rPr b="1" lang="en-GB" sz="1000" spc="-1" strike="noStrike">
                <a:solidFill>
                  <a:srgbClr val="005586"/>
                </a:solidFill>
                <a:latin typeface="Franklin Gothic Book"/>
                <a:ea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1115640" y="2133360"/>
            <a:ext cx="7010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15640" y="8380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18"/>
          <p:cNvGrpSpPr/>
          <p:nvPr/>
        </p:nvGrpSpPr>
        <p:grpSpPr>
          <a:xfrm>
            <a:off x="6183360" y="0"/>
            <a:ext cx="2781360" cy="6858000"/>
            <a:chOff x="6183360" y="0"/>
            <a:chExt cx="2781360" cy="6858000"/>
          </a:xfrm>
        </p:grpSpPr>
        <p:pic>
          <p:nvPicPr>
            <p:cNvPr id="280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83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41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69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TextBox 6"/>
          <p:cNvSpPr/>
          <p:nvPr/>
        </p:nvSpPr>
        <p:spPr>
          <a:xfrm>
            <a:off x="1014480" y="2055960"/>
            <a:ext cx="7950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GROWING LEADERS COURSE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12"/>
          <p:cNvGrpSpPr/>
          <p:nvPr/>
        </p:nvGrpSpPr>
        <p:grpSpPr>
          <a:xfrm>
            <a:off x="3132000" y="104960880"/>
            <a:ext cx="3800160" cy="10299600"/>
            <a:chOff x="3132000" y="104960880"/>
            <a:chExt cx="3800160" cy="10299600"/>
          </a:xfrm>
        </p:grpSpPr>
        <p:pic>
          <p:nvPicPr>
            <p:cNvPr id="285" name="Picture 13" descr="Hoop-black"/>
            <p:cNvPicPr/>
            <p:nvPr/>
          </p:nvPicPr>
          <p:blipFill>
            <a:blip r:embed="rId4"/>
            <a:stretch/>
          </p:blipFill>
          <p:spPr>
            <a:xfrm>
              <a:off x="3132000" y="109233000"/>
              <a:ext cx="2638440" cy="21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14"/>
            <p:cNvGrpSpPr/>
            <p:nvPr/>
          </p:nvGrpSpPr>
          <p:grpSpPr>
            <a:xfrm>
              <a:off x="4016520" y="104960880"/>
              <a:ext cx="2915640" cy="10299600"/>
              <a:chOff x="4016520" y="104960880"/>
              <a:chExt cx="2915640" cy="10299600"/>
            </a:xfrm>
          </p:grpSpPr>
          <p:pic>
            <p:nvPicPr>
              <p:cNvPr id="287" name="Picture 15" descr=""/>
              <p:cNvPicPr/>
              <p:nvPr/>
            </p:nvPicPr>
            <p:blipFill>
              <a:blip r:embed="rId5"/>
              <a:srcRect l="-1829" t="-1216" r="0" b="-1515"/>
              <a:stretch/>
            </p:blipFill>
            <p:spPr>
              <a:xfrm flipH="1">
                <a:off x="4370760" y="105824880"/>
                <a:ext cx="2423520" cy="173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16" descr="Curve_orange"/>
              <p:cNvPicPr/>
              <p:nvPr/>
            </p:nvPicPr>
            <p:blipFill>
              <a:blip r:embed="rId6"/>
              <a:srcRect l="-3210" t="19915" r="0" b="3255"/>
              <a:stretch/>
            </p:blipFill>
            <p:spPr>
              <a:xfrm rot="10800000">
                <a:off x="4016520" y="104960880"/>
                <a:ext cx="2915640" cy="1029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9" name="Rectangle 17"/>
          <p:cNvSpPr/>
          <p:nvPr/>
        </p:nvSpPr>
        <p:spPr>
          <a:xfrm>
            <a:off x="107118000" y="105011640"/>
            <a:ext cx="4542120" cy="10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13" descr=""/>
          <p:cNvPicPr/>
          <p:nvPr/>
        </p:nvPicPr>
        <p:blipFill>
          <a:blip r:embed="rId7"/>
          <a:stretch/>
        </p:blipFill>
        <p:spPr>
          <a:xfrm>
            <a:off x="527040" y="-2430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5" descr="j0406922"/>
          <p:cNvPicPr/>
          <p:nvPr/>
        </p:nvPicPr>
        <p:blipFill>
          <a:blip r:embed="rId1"/>
          <a:stretch/>
        </p:blipFill>
        <p:spPr>
          <a:xfrm>
            <a:off x="415800" y="311040"/>
            <a:ext cx="831240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826920" y="836640"/>
            <a:ext cx="7490160" cy="1557000"/>
          </a:xfrm>
          <a:prstGeom prst="rect">
            <a:avLst/>
          </a:prstGeom>
          <a:solidFill>
            <a:srgbClr val="004d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spcAft>
                <a:spcPts val="6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36c23"/>
                </a:solidFill>
                <a:latin typeface="Franklin Gothic Medium"/>
              </a:rPr>
              <a:t>RHYTHMS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405080" y="330192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</a:rPr>
              <a:t>Church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5581800" y="400356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</a:rPr>
              <a:t>Person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2371680" y="50720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</a:rPr>
              <a:t>Leadershi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8"/>
          <p:cNvSpPr/>
          <p:nvPr/>
        </p:nvSpPr>
        <p:spPr>
          <a:xfrm>
            <a:off x="3276720" y="3119400"/>
            <a:ext cx="3024000" cy="692280"/>
          </a:xfrm>
          <a:custGeom>
            <a:avLst/>
            <a:gdLst/>
            <a:ahLst/>
            <a:rect l="l" t="t" r="r" b="b"/>
            <a:pathLst>
              <a:path w="1905" h="544">
                <a:moveTo>
                  <a:pt x="0" y="271"/>
                </a:moveTo>
                <a:cubicBezTo>
                  <a:pt x="295" y="135"/>
                  <a:pt x="590" y="0"/>
                  <a:pt x="907" y="45"/>
                </a:cubicBezTo>
                <a:cubicBezTo>
                  <a:pt x="1224" y="90"/>
                  <a:pt x="1739" y="461"/>
                  <a:pt x="1905" y="544"/>
                </a:cubicBezTo>
              </a:path>
            </a:pathLst>
          </a:custGeom>
          <a:noFill/>
          <a:ln w="38160">
            <a:solidFill>
              <a:srgbClr val="f36c2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10"/>
          <p:cNvSpPr/>
          <p:nvPr/>
        </p:nvSpPr>
        <p:spPr>
          <a:xfrm rot="19833600">
            <a:off x="5611320" y="4882680"/>
            <a:ext cx="1152720" cy="430200"/>
          </a:xfrm>
          <a:custGeom>
            <a:avLst/>
            <a:gdLst/>
            <a:ahLst/>
            <a:rect l="l" t="t" r="r" b="b"/>
            <a:pathLst>
              <a:path w="1270" h="612">
                <a:moveTo>
                  <a:pt x="1270" y="0"/>
                </a:moveTo>
                <a:cubicBezTo>
                  <a:pt x="1104" y="238"/>
                  <a:pt x="938" y="476"/>
                  <a:pt x="726" y="544"/>
                </a:cubicBezTo>
                <a:cubicBezTo>
                  <a:pt x="514" y="612"/>
                  <a:pt x="121" y="431"/>
                  <a:pt x="0" y="408"/>
                </a:cubicBezTo>
              </a:path>
            </a:pathLst>
          </a:custGeom>
          <a:noFill/>
          <a:ln w="38160">
            <a:solidFill>
              <a:srgbClr val="f36c2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10"/>
          <p:cNvSpPr/>
          <p:nvPr/>
        </p:nvSpPr>
        <p:spPr>
          <a:xfrm rot="4725600">
            <a:off x="1742400" y="4527720"/>
            <a:ext cx="1414440" cy="376200"/>
          </a:xfrm>
          <a:custGeom>
            <a:avLst/>
            <a:gdLst/>
            <a:ahLst/>
            <a:rect l="l" t="t" r="r" b="b"/>
            <a:pathLst>
              <a:path w="1270" h="612">
                <a:moveTo>
                  <a:pt x="1270" y="0"/>
                </a:moveTo>
                <a:cubicBezTo>
                  <a:pt x="1104" y="238"/>
                  <a:pt x="938" y="476"/>
                  <a:pt x="726" y="544"/>
                </a:cubicBezTo>
                <a:cubicBezTo>
                  <a:pt x="514" y="612"/>
                  <a:pt x="121" y="431"/>
                  <a:pt x="0" y="408"/>
                </a:cubicBezTo>
              </a:path>
            </a:pathLst>
          </a:custGeom>
          <a:noFill/>
          <a:ln w="38160">
            <a:solidFill>
              <a:srgbClr val="f36c2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4"/>
          <p:cNvSpPr/>
          <p:nvPr/>
        </p:nvSpPr>
        <p:spPr>
          <a:xfrm>
            <a:off x="826920" y="836640"/>
            <a:ext cx="7490160" cy="1557000"/>
          </a:xfrm>
          <a:prstGeom prst="rect">
            <a:avLst/>
          </a:prstGeom>
          <a:solidFill>
            <a:srgbClr val="004d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spcAft>
                <a:spcPts val="6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36c23"/>
                </a:solidFill>
                <a:latin typeface="Franklin Gothic Medium"/>
              </a:rPr>
              <a:t>RHYTHMS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405080" y="330192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</a:rPr>
              <a:t>Church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Church seasons_wheel"/>
          <p:cNvPicPr/>
          <p:nvPr/>
        </p:nvPicPr>
        <p:blipFill>
          <a:blip r:embed="rId1"/>
          <a:srcRect l="3413" t="3413" r="3413" b="3413"/>
          <a:stretch/>
        </p:blipFill>
        <p:spPr>
          <a:xfrm>
            <a:off x="1185840" y="115920"/>
            <a:ext cx="6481800" cy="6481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560" y="692280"/>
            <a:ext cx="7417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DISCIPLE-MAKING RHYTHM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58920" y="2060640"/>
            <a:ext cx="25923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Sowing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2916360" y="251460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d9b"/>
                </a:solidFill>
                <a:latin typeface="Franklin Gothic Medium"/>
              </a:rPr>
              <a:t>September-Dece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5651640" y="3500280"/>
            <a:ext cx="288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Watering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reaping,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germinat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5900760" y="48387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d9b"/>
                </a:solidFill>
                <a:latin typeface="Franklin Gothic Medium"/>
              </a:rPr>
              <a:t>December-Marc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2773440" y="5230800"/>
            <a:ext cx="331128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Cultivat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3529080" y="57024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d9b"/>
                </a:solidFill>
                <a:latin typeface="Franklin Gothic Medium"/>
              </a:rPr>
              <a:t>April-Ju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9"/>
          <p:cNvSpPr/>
          <p:nvPr/>
        </p:nvSpPr>
        <p:spPr>
          <a:xfrm rot="679200">
            <a:off x="5698800" y="2417760"/>
            <a:ext cx="1584360" cy="907920"/>
          </a:xfrm>
          <a:custGeom>
            <a:avLst/>
            <a:gdLst/>
            <a:ahLst/>
            <a:rect l="l" t="t" r="r" b="b"/>
            <a:pathLst>
              <a:path w="998" h="741">
                <a:moveTo>
                  <a:pt x="0" y="106"/>
                </a:moveTo>
                <a:cubicBezTo>
                  <a:pt x="280" y="53"/>
                  <a:pt x="560" y="0"/>
                  <a:pt x="726" y="106"/>
                </a:cubicBezTo>
                <a:cubicBezTo>
                  <a:pt x="892" y="212"/>
                  <a:pt x="975" y="650"/>
                  <a:pt x="998" y="741"/>
                </a:cubicBezTo>
              </a:path>
            </a:pathLst>
          </a:custGeom>
          <a:noFill/>
          <a:ln w="57240">
            <a:solidFill>
              <a:srgbClr val="eb6d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0" y="3575160"/>
            <a:ext cx="33116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Medium"/>
              </a:rPr>
              <a:t>Rest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3"/>
          <p:cNvSpPr/>
          <p:nvPr/>
        </p:nvSpPr>
        <p:spPr>
          <a:xfrm>
            <a:off x="646200" y="4044960"/>
            <a:ext cx="19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d9b"/>
                </a:solidFill>
                <a:latin typeface="Franklin Gothic Medium"/>
              </a:rPr>
              <a:t>July-Augus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14"/>
          <p:cNvSpPr/>
          <p:nvPr/>
        </p:nvSpPr>
        <p:spPr>
          <a:xfrm rot="20491200">
            <a:off x="5628960" y="5508360"/>
            <a:ext cx="1571760" cy="280800"/>
          </a:xfrm>
          <a:custGeom>
            <a:avLst/>
            <a:gdLst/>
            <a:ahLst/>
            <a:rect l="l" t="t" r="r" b="b"/>
            <a:pathLst>
              <a:path w="1225" h="393">
                <a:moveTo>
                  <a:pt x="1225" y="0"/>
                </a:moveTo>
                <a:cubicBezTo>
                  <a:pt x="1122" y="166"/>
                  <a:pt x="1020" y="333"/>
                  <a:pt x="816" y="363"/>
                </a:cubicBezTo>
                <a:cubicBezTo>
                  <a:pt x="612" y="393"/>
                  <a:pt x="136" y="211"/>
                  <a:pt x="0" y="181"/>
                </a:cubicBezTo>
              </a:path>
            </a:pathLst>
          </a:custGeom>
          <a:noFill/>
          <a:ln w="57240">
            <a:solidFill>
              <a:srgbClr val="eb6d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15"/>
          <p:cNvSpPr/>
          <p:nvPr/>
        </p:nvSpPr>
        <p:spPr>
          <a:xfrm>
            <a:off x="1738440" y="4605480"/>
            <a:ext cx="1350720" cy="1136520"/>
          </a:xfrm>
          <a:custGeom>
            <a:avLst/>
            <a:gdLst/>
            <a:ahLst/>
            <a:rect l="l" t="t" r="r" b="b"/>
            <a:pathLst>
              <a:path w="499" h="726">
                <a:moveTo>
                  <a:pt x="499" y="726"/>
                </a:moveTo>
                <a:cubicBezTo>
                  <a:pt x="336" y="695"/>
                  <a:pt x="174" y="665"/>
                  <a:pt x="91" y="544"/>
                </a:cubicBezTo>
                <a:cubicBezTo>
                  <a:pt x="8" y="423"/>
                  <a:pt x="15" y="91"/>
                  <a:pt x="0" y="0"/>
                </a:cubicBezTo>
              </a:path>
            </a:pathLst>
          </a:custGeom>
          <a:noFill/>
          <a:ln w="57240">
            <a:solidFill>
              <a:srgbClr val="eb6d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9"/>
          <p:cNvSpPr/>
          <p:nvPr/>
        </p:nvSpPr>
        <p:spPr>
          <a:xfrm rot="17487000">
            <a:off x="1514880" y="2492640"/>
            <a:ext cx="1481040" cy="866880"/>
          </a:xfrm>
          <a:custGeom>
            <a:avLst/>
            <a:gdLst/>
            <a:ahLst/>
            <a:rect l="l" t="t" r="r" b="b"/>
            <a:pathLst>
              <a:path w="998" h="741">
                <a:moveTo>
                  <a:pt x="0" y="106"/>
                </a:moveTo>
                <a:cubicBezTo>
                  <a:pt x="280" y="53"/>
                  <a:pt x="560" y="0"/>
                  <a:pt x="726" y="106"/>
                </a:cubicBezTo>
                <a:cubicBezTo>
                  <a:pt x="892" y="212"/>
                  <a:pt x="975" y="650"/>
                  <a:pt x="998" y="741"/>
                </a:cubicBezTo>
              </a:path>
            </a:pathLst>
          </a:custGeom>
          <a:noFill/>
          <a:ln w="57240">
            <a:solidFill>
              <a:srgbClr val="eb6d2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4"/>
          <p:cNvSpPr/>
          <p:nvPr/>
        </p:nvSpPr>
        <p:spPr>
          <a:xfrm>
            <a:off x="826920" y="836640"/>
            <a:ext cx="7490160" cy="1557000"/>
          </a:xfrm>
          <a:prstGeom prst="rect">
            <a:avLst/>
          </a:prstGeom>
          <a:solidFill>
            <a:srgbClr val="004d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spcAft>
                <a:spcPts val="6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36c23"/>
                </a:solidFill>
                <a:latin typeface="Franklin Gothic Medium"/>
              </a:rPr>
              <a:t>RHYTHMS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05080" y="330192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</a:rPr>
              <a:t>Church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371680" y="50720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</a:rPr>
              <a:t>Leadershi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0"/>
          <p:cNvSpPr/>
          <p:nvPr/>
        </p:nvSpPr>
        <p:spPr>
          <a:xfrm rot="4725600">
            <a:off x="1742400" y="4527720"/>
            <a:ext cx="1414440" cy="376200"/>
          </a:xfrm>
          <a:custGeom>
            <a:avLst/>
            <a:gdLst/>
            <a:ahLst/>
            <a:rect l="l" t="t" r="r" b="b"/>
            <a:pathLst>
              <a:path w="1270" h="612">
                <a:moveTo>
                  <a:pt x="1270" y="0"/>
                </a:moveTo>
                <a:cubicBezTo>
                  <a:pt x="1104" y="238"/>
                  <a:pt x="938" y="476"/>
                  <a:pt x="726" y="544"/>
                </a:cubicBezTo>
                <a:cubicBezTo>
                  <a:pt x="514" y="612"/>
                  <a:pt x="121" y="431"/>
                  <a:pt x="0" y="408"/>
                </a:cubicBezTo>
              </a:path>
            </a:pathLst>
          </a:custGeom>
          <a:noFill/>
          <a:ln w="38160">
            <a:solidFill>
              <a:srgbClr val="f36c2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1600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LEADERSHIP RHYTHM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6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Vision and planning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Implementing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elebrating and resting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Resourcing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Oval 4"/>
          <p:cNvSpPr/>
          <p:nvPr/>
        </p:nvSpPr>
        <p:spPr>
          <a:xfrm>
            <a:off x="-541440" y="5946840"/>
            <a:ext cx="1225800" cy="121428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5"/>
          <p:cNvSpPr/>
          <p:nvPr/>
        </p:nvSpPr>
        <p:spPr>
          <a:xfrm>
            <a:off x="8688240" y="339840"/>
            <a:ext cx="911520" cy="92232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43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743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57" name="Picture 4" descr="j0387296"/>
          <p:cNvPicPr/>
          <p:nvPr/>
        </p:nvPicPr>
        <p:blipFill>
          <a:blip r:embed="rId1"/>
          <a:stretch/>
        </p:blipFill>
        <p:spPr>
          <a:xfrm>
            <a:off x="415800" y="311040"/>
            <a:ext cx="831240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1600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QUESTIONS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16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hat would be a healthy rhythm for your church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ow would the leadership rhythm sit alongside this?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How can we establish good patterns of planning, implementing, celebrating and resourcing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0" name="Oval 4"/>
          <p:cNvSpPr/>
          <p:nvPr/>
        </p:nvSpPr>
        <p:spPr>
          <a:xfrm>
            <a:off x="-541440" y="5946840"/>
            <a:ext cx="1225800" cy="121428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5"/>
          <p:cNvSpPr/>
          <p:nvPr/>
        </p:nvSpPr>
        <p:spPr>
          <a:xfrm>
            <a:off x="8688240" y="339840"/>
            <a:ext cx="911520" cy="92232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0" y="838080"/>
            <a:ext cx="4572000" cy="51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Franklin Gothic Medium"/>
              </a:rPr>
              <a:t>REFRESHMENT TIME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363" name="Picture 5" descr="MPj03416080000[1]"/>
          <p:cNvPicPr/>
          <p:nvPr/>
        </p:nvPicPr>
        <p:blipFill>
          <a:blip r:embed="rId1"/>
          <a:stretch/>
        </p:blipFill>
        <p:spPr>
          <a:xfrm>
            <a:off x="395280" y="620640"/>
            <a:ext cx="4008600" cy="561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3"/>
          <p:cNvSpPr/>
          <p:nvPr/>
        </p:nvSpPr>
        <p:spPr>
          <a:xfrm>
            <a:off x="539640" y="2303640"/>
            <a:ext cx="56167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6680"/>
                <a:tab algn="l" pos="873000"/>
                <a:tab algn="l" pos="1309680"/>
                <a:tab algn="l" pos="1746360"/>
                <a:tab algn="l" pos="2182680"/>
                <a:tab algn="l" pos="2619360"/>
                <a:tab algn="l" pos="3056040"/>
                <a:tab algn="l" pos="3492360"/>
                <a:tab algn="l" pos="3929040"/>
                <a:tab algn="l" pos="4365720"/>
                <a:tab algn="l" pos="4802040"/>
                <a:tab algn="l" pos="5238720"/>
                <a:tab algn="l" pos="5675400"/>
                <a:tab algn="l" pos="6111720"/>
                <a:tab algn="l" pos="6548400"/>
                <a:tab algn="l" pos="6985080"/>
                <a:tab algn="l" pos="7421400"/>
                <a:tab algn="l" pos="7858080"/>
                <a:tab algn="l" pos="8294760"/>
                <a:tab algn="l" pos="873108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Part 1</a:t>
            </a:r>
            <a:r>
              <a:rPr b="0" lang="en-GB" sz="2800" spc="-1" strike="noStrike">
                <a:solidFill>
                  <a:srgbClr val="002c85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Firm foundations for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hristian leadershi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36680"/>
                <a:tab algn="l" pos="873000"/>
                <a:tab algn="l" pos="1309680"/>
                <a:tab algn="l" pos="1746360"/>
                <a:tab algn="l" pos="2182680"/>
                <a:tab algn="l" pos="2619360"/>
                <a:tab algn="l" pos="3056040"/>
                <a:tab algn="l" pos="3492360"/>
                <a:tab algn="l" pos="3929040"/>
                <a:tab algn="l" pos="4365720"/>
                <a:tab algn="l" pos="4802040"/>
                <a:tab algn="l" pos="5238720"/>
                <a:tab algn="l" pos="5675400"/>
                <a:tab algn="l" pos="6111720"/>
                <a:tab algn="l" pos="6548400"/>
                <a:tab algn="l" pos="6985080"/>
                <a:tab algn="l" pos="7421400"/>
                <a:tab algn="l" pos="7858080"/>
                <a:tab algn="l" pos="8294760"/>
                <a:tab algn="l" pos="873108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Part 2 </a:t>
            </a:r>
            <a:r>
              <a:rPr b="0" lang="en-GB" sz="2800" spc="-1" strike="noStrike">
                <a:solidFill>
                  <a:srgbClr val="ff650f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Key skills of Christia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dershi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36680"/>
                <a:tab algn="l" pos="873000"/>
                <a:tab algn="l" pos="1309680"/>
                <a:tab algn="l" pos="1746360"/>
                <a:tab algn="l" pos="2182680"/>
                <a:tab algn="l" pos="2619360"/>
                <a:tab algn="l" pos="3056040"/>
                <a:tab algn="l" pos="3492360"/>
                <a:tab algn="l" pos="3929040"/>
                <a:tab algn="l" pos="4365720"/>
                <a:tab algn="l" pos="4802040"/>
                <a:tab algn="l" pos="5238720"/>
                <a:tab algn="l" pos="5675400"/>
                <a:tab algn="l" pos="6111720"/>
                <a:tab algn="l" pos="6548400"/>
                <a:tab algn="l" pos="6985080"/>
                <a:tab algn="l" pos="7421400"/>
                <a:tab algn="l" pos="7858080"/>
                <a:tab algn="l" pos="8294760"/>
                <a:tab algn="l" pos="873108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Part 3 </a:t>
            </a:r>
            <a:r>
              <a:rPr b="0" lang="en-GB" sz="2800" spc="-1" strike="noStrike">
                <a:solidFill>
                  <a:srgbClr val="002c85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Keeping faithful in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hristian leadershi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539640" y="121932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GROWING</a:t>
            </a:r>
            <a:r>
              <a:rPr b="0" lang="en-GB" sz="4400" spc="-1" strike="noStrike">
                <a:solidFill>
                  <a:srgbClr val="004d9b"/>
                </a:solidFill>
                <a:latin typeface="Franklin Gothic Medium"/>
                <a:ea typeface="Tahoma"/>
              </a:rPr>
              <a:t> </a:t>
            </a:r>
            <a:r>
              <a:rPr b="0" lang="en-GB" sz="44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LEAD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18"/>
          <p:cNvGrpSpPr/>
          <p:nvPr/>
        </p:nvGrpSpPr>
        <p:grpSpPr>
          <a:xfrm>
            <a:off x="6156360" y="0"/>
            <a:ext cx="2781360" cy="6858000"/>
            <a:chOff x="6156360" y="0"/>
            <a:chExt cx="2781360" cy="6858000"/>
          </a:xfrm>
        </p:grpSpPr>
        <p:pic>
          <p:nvPicPr>
            <p:cNvPr id="294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56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14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42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826920" y="836640"/>
            <a:ext cx="7490160" cy="1557000"/>
          </a:xfrm>
          <a:prstGeom prst="rect">
            <a:avLst/>
          </a:prstGeom>
          <a:solidFill>
            <a:srgbClr val="004d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spcAft>
                <a:spcPts val="6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36c23"/>
                </a:solidFill>
                <a:latin typeface="Franklin Gothic Medium"/>
              </a:rPr>
              <a:t>RHYTHMS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405080" y="3301920"/>
            <a:ext cx="24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</a:rPr>
              <a:t>Church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5581800" y="400356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</a:rPr>
              <a:t>Person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2371680" y="50720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</a:rPr>
              <a:t>Leadershi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8"/>
          <p:cNvSpPr/>
          <p:nvPr/>
        </p:nvSpPr>
        <p:spPr>
          <a:xfrm>
            <a:off x="3276720" y="3119400"/>
            <a:ext cx="3024000" cy="692280"/>
          </a:xfrm>
          <a:custGeom>
            <a:avLst/>
            <a:gdLst/>
            <a:ahLst/>
            <a:rect l="l" t="t" r="r" b="b"/>
            <a:pathLst>
              <a:path w="1905" h="544">
                <a:moveTo>
                  <a:pt x="0" y="271"/>
                </a:moveTo>
                <a:cubicBezTo>
                  <a:pt x="295" y="135"/>
                  <a:pt x="590" y="0"/>
                  <a:pt x="907" y="45"/>
                </a:cubicBezTo>
                <a:cubicBezTo>
                  <a:pt x="1224" y="90"/>
                  <a:pt x="1739" y="461"/>
                  <a:pt x="1905" y="544"/>
                </a:cubicBezTo>
              </a:path>
            </a:pathLst>
          </a:custGeom>
          <a:noFill/>
          <a:ln w="38160">
            <a:solidFill>
              <a:srgbClr val="f36c2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10"/>
          <p:cNvSpPr/>
          <p:nvPr/>
        </p:nvSpPr>
        <p:spPr>
          <a:xfrm rot="19833600">
            <a:off x="5611320" y="4882680"/>
            <a:ext cx="1152720" cy="430200"/>
          </a:xfrm>
          <a:custGeom>
            <a:avLst/>
            <a:gdLst/>
            <a:ahLst/>
            <a:rect l="l" t="t" r="r" b="b"/>
            <a:pathLst>
              <a:path w="1270" h="612">
                <a:moveTo>
                  <a:pt x="1270" y="0"/>
                </a:moveTo>
                <a:cubicBezTo>
                  <a:pt x="1104" y="238"/>
                  <a:pt x="938" y="476"/>
                  <a:pt x="726" y="544"/>
                </a:cubicBezTo>
                <a:cubicBezTo>
                  <a:pt x="514" y="612"/>
                  <a:pt x="121" y="431"/>
                  <a:pt x="0" y="408"/>
                </a:cubicBezTo>
              </a:path>
            </a:pathLst>
          </a:custGeom>
          <a:noFill/>
          <a:ln w="38160">
            <a:solidFill>
              <a:srgbClr val="f36c2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reeform 10"/>
          <p:cNvSpPr/>
          <p:nvPr/>
        </p:nvSpPr>
        <p:spPr>
          <a:xfrm rot="4725600">
            <a:off x="1742400" y="4527720"/>
            <a:ext cx="1414440" cy="376200"/>
          </a:xfrm>
          <a:custGeom>
            <a:avLst/>
            <a:gdLst/>
            <a:ahLst/>
            <a:rect l="l" t="t" r="r" b="b"/>
            <a:pathLst>
              <a:path w="1270" h="612">
                <a:moveTo>
                  <a:pt x="1270" y="0"/>
                </a:moveTo>
                <a:cubicBezTo>
                  <a:pt x="1104" y="238"/>
                  <a:pt x="938" y="476"/>
                  <a:pt x="726" y="544"/>
                </a:cubicBezTo>
                <a:cubicBezTo>
                  <a:pt x="514" y="612"/>
                  <a:pt x="121" y="431"/>
                  <a:pt x="0" y="408"/>
                </a:cubicBezTo>
              </a:path>
            </a:pathLst>
          </a:custGeom>
          <a:noFill/>
          <a:ln w="38160">
            <a:solidFill>
              <a:srgbClr val="f36c2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4 seasons tree"/>
          <p:cNvPicPr/>
          <p:nvPr/>
        </p:nvPicPr>
        <p:blipFill>
          <a:blip r:embed="rId1"/>
          <a:stretch/>
        </p:blipFill>
        <p:spPr>
          <a:xfrm>
            <a:off x="1403280" y="476280"/>
            <a:ext cx="6408720" cy="597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cross shadow"/>
          <p:cNvPicPr/>
          <p:nvPr/>
        </p:nvPicPr>
        <p:blipFill>
          <a:blip r:embed="rId1"/>
          <a:srcRect l="0" t="0" r="20000" b="0"/>
          <a:stretch/>
        </p:blipFill>
        <p:spPr>
          <a:xfrm>
            <a:off x="419040" y="247680"/>
            <a:ext cx="8382240" cy="631656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3"/>
          <p:cNvSpPr/>
          <p:nvPr/>
        </p:nvSpPr>
        <p:spPr>
          <a:xfrm>
            <a:off x="755640" y="596880"/>
            <a:ext cx="64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Franklin Gothic Medium"/>
              </a:rPr>
              <a:t>Each person…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5864400" y="58942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Franklin Gothic Medium"/>
              </a:rPr>
              <a:t>John 10: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825480" y="170028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is called to a surrendered lif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898560" y="321300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that leads to an abundant life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898560" y="465300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3600" spc="-1" strike="noStrike">
                <a:solidFill>
                  <a:srgbClr val="ffffff"/>
                </a:solidFill>
                <a:latin typeface="Franklin Gothic Medium"/>
              </a:rPr>
              <a:t>which is expressed in a blended lif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826920" y="1125360"/>
            <a:ext cx="7274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How many new commitments have you taken on in the last 12 months?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How many commitments have you stopped in the last 12 months?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How do we blend the variety of things that are part of God’s call on our life?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here might the time allocation of the blend need to change?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Oval 3"/>
          <p:cNvSpPr/>
          <p:nvPr/>
        </p:nvSpPr>
        <p:spPr>
          <a:xfrm>
            <a:off x="-541440" y="5946840"/>
            <a:ext cx="1225800" cy="121428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4"/>
          <p:cNvSpPr/>
          <p:nvPr/>
        </p:nvSpPr>
        <p:spPr>
          <a:xfrm>
            <a:off x="8688240" y="339840"/>
            <a:ext cx="911520" cy="92232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1403280" y="549360"/>
            <a:ext cx="63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004d9b"/>
                </a:solidFill>
                <a:latin typeface="Franklin Gothic Medium"/>
              </a:rPr>
              <a:t>Do </a:t>
            </a:r>
            <a:br>
              <a:rPr sz="12000"/>
            </a:br>
            <a:r>
              <a:rPr b="0" lang="en-GB" sz="12000" spc="-1" strike="noStrike">
                <a:solidFill>
                  <a:srgbClr val="004d9b"/>
                </a:solidFill>
                <a:latin typeface="Franklin Gothic Medium"/>
              </a:rPr>
              <a:t>LESS better</a:t>
            </a:r>
            <a:endParaRPr b="1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4000" y="173628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NEXT SESSION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4000" y="2808000"/>
            <a:ext cx="824364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14: Growing wel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Dat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Venu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84" name="Group 18"/>
          <p:cNvGrpSpPr/>
          <p:nvPr/>
        </p:nvGrpSpPr>
        <p:grpSpPr>
          <a:xfrm>
            <a:off x="6254640" y="0"/>
            <a:ext cx="2781360" cy="6858000"/>
            <a:chOff x="6254640" y="0"/>
            <a:chExt cx="2781360" cy="6858000"/>
          </a:xfrm>
        </p:grpSpPr>
        <p:pic>
          <p:nvPicPr>
            <p:cNvPr id="385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25464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71292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64056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8" name="Picture 13" descr=""/>
          <p:cNvPicPr/>
          <p:nvPr/>
        </p:nvPicPr>
        <p:blipFill>
          <a:blip r:embed="rId4"/>
          <a:stretch/>
        </p:blipFill>
        <p:spPr>
          <a:xfrm>
            <a:off x="324000" y="-177840"/>
            <a:ext cx="1452240" cy="145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2405160" y="692280"/>
            <a:ext cx="4321080" cy="4322520"/>
          </a:xfrm>
          <a:prstGeom prst="rect">
            <a:avLst/>
          </a:prstGeom>
          <a:ln w="0">
            <a:noFill/>
          </a:ln>
        </p:spPr>
      </p:pic>
      <p:sp>
        <p:nvSpPr>
          <p:cNvPr id="390" name="TextBox 3"/>
          <p:cNvSpPr/>
          <p:nvPr/>
        </p:nvSpPr>
        <p:spPr>
          <a:xfrm>
            <a:off x="3087720" y="5373720"/>
            <a:ext cx="45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ter"/>
                <a:ea typeface="MS PGothic"/>
              </a:rPr>
              <a:t>@CPASLeadershi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2" descr="Image result for Twitter"/>
          <p:cNvPicPr/>
          <p:nvPr/>
        </p:nvPicPr>
        <p:blipFill>
          <a:blip r:embed="rId2"/>
          <a:stretch/>
        </p:blipFill>
        <p:spPr>
          <a:xfrm>
            <a:off x="2376360" y="5338800"/>
            <a:ext cx="677880" cy="6778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4"/>
          <p:cNvSpPr/>
          <p:nvPr/>
        </p:nvSpPr>
        <p:spPr>
          <a:xfrm>
            <a:off x="361800" y="311040"/>
            <a:ext cx="8425080" cy="6264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192240" y="196920"/>
            <a:ext cx="8748720" cy="6472080"/>
          </a:xfrm>
          <a:prstGeom prst="rect">
            <a:avLst/>
          </a:prstGeom>
          <a:solidFill>
            <a:srgbClr val="95cc48"/>
          </a:solidFill>
          <a:ln w="9360">
            <a:solidFill>
              <a:srgbClr val="95cc4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Oval 2"/>
          <p:cNvSpPr/>
          <p:nvPr/>
        </p:nvSpPr>
        <p:spPr>
          <a:xfrm>
            <a:off x="1447920" y="457200"/>
            <a:ext cx="6324480" cy="5943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2c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3"/>
          <p:cNvSpPr/>
          <p:nvPr/>
        </p:nvSpPr>
        <p:spPr>
          <a:xfrm>
            <a:off x="2247840" y="1143000"/>
            <a:ext cx="4648320" cy="3581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3429000" y="2978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HOS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21906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AL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5116680" y="4800600"/>
            <a:ext cx="23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HARACT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429000" y="609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OMPETE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6300720" y="20001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OMMUN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387360" y="45720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CONTEX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6" name="Straight Arrow Connector 5"/>
          <p:cNvCxnSpPr/>
          <p:nvPr/>
        </p:nvCxnSpPr>
        <p:spPr>
          <a:xfrm flipH="1">
            <a:off x="2771280" y="3697200"/>
            <a:ext cx="1315440" cy="774000"/>
          </a:xfrm>
          <a:prstGeom prst="straightConnector1">
            <a:avLst/>
          </a:prstGeom>
          <a:ln w="38160">
            <a:solidFill>
              <a:srgbClr val="005586"/>
            </a:solidFill>
            <a:miter/>
            <a:tailEnd len="med" type="triangle" w="med"/>
          </a:ln>
        </p:spPr>
      </p:cxnSp>
      <p:cxnSp>
        <p:nvCxnSpPr>
          <p:cNvPr id="307" name="Straight Arrow Connector 24"/>
          <p:cNvCxnSpPr/>
          <p:nvPr/>
        </p:nvCxnSpPr>
        <p:spPr>
          <a:xfrm>
            <a:off x="5094000" y="3715920"/>
            <a:ext cx="1253160" cy="785160"/>
          </a:xfrm>
          <a:prstGeom prst="straightConnector1">
            <a:avLst/>
          </a:prstGeom>
          <a:ln w="38160">
            <a:solidFill>
              <a:srgbClr val="005586"/>
            </a:solidFill>
            <a:miter/>
            <a:tailEnd len="med" type="triangle" w="med"/>
          </a:ln>
        </p:spPr>
      </p:cxnSp>
      <p:cxnSp>
        <p:nvCxnSpPr>
          <p:cNvPr id="308" name="Straight Arrow Connector 31"/>
          <p:cNvCxnSpPr/>
          <p:nvPr/>
        </p:nvCxnSpPr>
        <p:spPr>
          <a:xfrm flipV="1">
            <a:off x="4554000" y="1382400"/>
            <a:ext cx="24840" cy="1465920"/>
          </a:xfrm>
          <a:prstGeom prst="straightConnector1">
            <a:avLst/>
          </a:prstGeom>
          <a:ln w="38160">
            <a:solidFill>
              <a:srgbClr val="005586"/>
            </a:solidFill>
            <a:miter/>
            <a:tailEnd len="med" type="triangle" w="med"/>
          </a:ln>
        </p:spPr>
      </p:cxnSp>
      <p:sp>
        <p:nvSpPr>
          <p:cNvPr id="309" name="Text Box 12"/>
          <p:cNvSpPr/>
          <p:nvPr/>
        </p:nvSpPr>
        <p:spPr>
          <a:xfrm>
            <a:off x="4041360" y="4538520"/>
            <a:ext cx="1098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85"/>
                </a:solidFill>
                <a:latin typeface="Franklin Gothic Medium"/>
                <a:ea typeface="Arial"/>
              </a:rPr>
              <a:t>Courag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3"/>
          <p:cNvSpPr/>
          <p:nvPr/>
        </p:nvSpPr>
        <p:spPr>
          <a:xfrm rot="3449400">
            <a:off x="5103000" y="2735640"/>
            <a:ext cx="1267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85"/>
                </a:solidFill>
                <a:latin typeface="Franklin Gothic Medium"/>
                <a:ea typeface="Arial"/>
              </a:rPr>
              <a:t>Credibilit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4"/>
          <p:cNvSpPr/>
          <p:nvPr/>
        </p:nvSpPr>
        <p:spPr>
          <a:xfrm rot="18157200">
            <a:off x="2768400" y="2663280"/>
            <a:ext cx="1393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85"/>
                </a:solidFill>
                <a:latin typeface="Franklin Gothic Medium"/>
                <a:ea typeface="Arial"/>
              </a:rPr>
              <a:t>Confidenc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6000" y="1125000"/>
            <a:ext cx="757872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b6d21"/>
                </a:solidFill>
                <a:latin typeface="Franklin Gothic Medium"/>
              </a:rPr>
              <a:t>SESSION 13</a:t>
            </a:r>
            <a:r>
              <a:rPr b="0" lang="en-GB" sz="6000" spc="-1" strike="noStrike">
                <a:solidFill>
                  <a:srgbClr val="eb6d21"/>
                </a:solidFill>
                <a:latin typeface="Franklin Gothic Medium"/>
              </a:rPr>
              <a:t> </a:t>
            </a:r>
            <a:br>
              <a:rPr sz="6000"/>
            </a:br>
            <a:r>
              <a:rPr b="0" lang="en-GB" sz="8000" spc="-1" strike="noStrike">
                <a:solidFill>
                  <a:srgbClr val="000000"/>
                </a:solidFill>
                <a:latin typeface="Franklin Gothic Medium"/>
              </a:rPr>
              <a:t>FINDING RHYTHMS</a:t>
            </a:r>
            <a:endParaRPr b="0" lang="en-US" sz="80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313" name="Picture 13" descr="Hoop_green.jpg"/>
          <p:cNvPicPr/>
          <p:nvPr/>
        </p:nvPicPr>
        <p:blipFill>
          <a:blip r:embed="rId1"/>
          <a:stretch/>
        </p:blipFill>
        <p:spPr>
          <a:xfrm>
            <a:off x="6516720" y="3789360"/>
            <a:ext cx="2352600" cy="19065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Hoop_orange.jpg"/>
          <p:cNvPicPr/>
          <p:nvPr/>
        </p:nvPicPr>
        <p:blipFill>
          <a:blip r:embed="rId2"/>
          <a:stretch/>
        </p:blipFill>
        <p:spPr>
          <a:xfrm>
            <a:off x="6300720" y="4780080"/>
            <a:ext cx="2422440" cy="173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115640" y="25905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Stage 1: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Personalise the training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Stage 2: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Keep stretching yourself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Stage 3: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ork out a rhythm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Stage 4: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Keep close relationship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6c23"/>
                </a:solidFill>
                <a:latin typeface="Franklin Gothic Book"/>
              </a:rPr>
              <a:t>Stage 5: 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omplete the cours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6" name="Picture 3" descr="Sample"/>
          <p:cNvPicPr/>
          <p:nvPr/>
        </p:nvPicPr>
        <p:blipFill>
          <a:blip r:embed="rId1"/>
          <a:stretch/>
        </p:blipFill>
        <p:spPr>
          <a:xfrm>
            <a:off x="1257480" y="304920"/>
            <a:ext cx="2666880" cy="19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5586"/>
                </a:solidFill>
                <a:latin typeface="Franklin Gothic Medium"/>
              </a:rPr>
              <a:t>AIMS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6560" y="1547280"/>
            <a:ext cx="67820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reconnect with one anoth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review how things are going in keeping faithful in Christian leadership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identify rhythms for church  and personal lif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9" name="Picture 5" descr="C:\Users\jamesl\Pictures\Microsoft Clip Organizer\00398869.jpg"/>
          <p:cNvPicPr/>
          <p:nvPr/>
        </p:nvPicPr>
        <p:blipFill>
          <a:blip r:embed="rId1"/>
          <a:srcRect l="14629" t="4724" r="32503" b="5504"/>
          <a:stretch/>
        </p:blipFill>
        <p:spPr>
          <a:xfrm>
            <a:off x="6789600" y="4005360"/>
            <a:ext cx="2354400" cy="285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lock face old"/>
          <p:cNvPicPr/>
          <p:nvPr/>
        </p:nvPicPr>
        <p:blipFill>
          <a:blip r:embed="rId1"/>
          <a:srcRect l="0" t="3115" r="0" b="3115"/>
          <a:stretch/>
        </p:blipFill>
        <p:spPr>
          <a:xfrm>
            <a:off x="541440" y="392040"/>
            <a:ext cx="8061120" cy="604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3" descr="clock 10-12"/>
          <p:cNvPicPr/>
          <p:nvPr/>
        </p:nvPicPr>
        <p:blipFill>
          <a:blip r:embed="rId1"/>
          <a:srcRect l="0" t="9052" r="0" b="0"/>
          <a:stretch/>
        </p:blipFill>
        <p:spPr>
          <a:xfrm>
            <a:off x="385920" y="311040"/>
            <a:ext cx="5481360" cy="6235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clock-sun-shot"/>
          <p:cNvPicPr/>
          <p:nvPr/>
        </p:nvPicPr>
        <p:blipFill>
          <a:blip r:embed="rId1"/>
          <a:stretch/>
        </p:blipFill>
        <p:spPr>
          <a:xfrm>
            <a:off x="541440" y="333360"/>
            <a:ext cx="8159760" cy="6118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0:28:29Z</dcterms:created>
  <dc:creator>setup1-01</dc:creator>
  <dc:description/>
  <dc:language>en-US</dc:language>
  <cp:lastModifiedBy>James Lawrence</cp:lastModifiedBy>
  <dcterms:modified xsi:type="dcterms:W3CDTF">2020-03-30T15:19:36Z</dcterms:modified>
  <cp:revision>108</cp:revision>
  <dc:subject/>
  <dc:title>PowerPoint Presentation</dc:title>
</cp:coreProperties>
</file>