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60A-0A6B-4E1C-B3BC-81F862CC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FF5-188C-4966-9574-F22CD976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E2C-285E-465B-999C-BA60DFFD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85D-E419-4956-9970-252576C8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CA5-D1FF-4A3D-9C9D-947BD229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A15-61AA-4AC1-A621-1289F3E2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B52-318F-4FE7-9329-56CDA3DE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A72-F284-4832-B16C-71096A07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FCC-7B6D-498D-B883-112DEC5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409-91B9-40CE-AD93-D72DA13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24B-108C-42EE-86A4-6B27C5C5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9E4-6DB9-406D-B6A7-EAEE563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5DEA-C70B-4C21-ACBE-70A093D53B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66680" y="2819520"/>
            <a:ext cx="7162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Franklin Gothic Medium"/>
              </a:rPr>
              <a:t>PSALM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066680" y="266688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gainst your enemie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H02012K"/>
          <p:cNvPicPr/>
          <p:nvPr/>
        </p:nvPicPr>
        <p:blipFill>
          <a:blip r:embed="rId1"/>
          <a:stretch/>
        </p:blipFill>
        <p:spPr>
          <a:xfrm>
            <a:off x="-304920" y="-473040"/>
            <a:ext cx="9448920" cy="7575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3505320" y="380880"/>
            <a:ext cx="52578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o silence the foe and the aveng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66680" y="266688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When I consider your heaven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H03719I"/>
          <p:cNvPicPr/>
          <p:nvPr/>
        </p:nvPicPr>
        <p:blipFill>
          <a:blip r:embed="rId1"/>
          <a:stretch/>
        </p:blipFill>
        <p:spPr>
          <a:xfrm>
            <a:off x="-609480" y="-596880"/>
            <a:ext cx="11277360" cy="7445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66680" y="266688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he work of your fingers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stars_main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762120" y="-395280"/>
            <a:ext cx="7215120" cy="7253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>
            <a:lum bright="-12000"/>
          </a:blip>
          <a:srcRect l="1283" t="2279" r="1721" b="7618"/>
          <a:stretch/>
        </p:blipFill>
        <p:spPr>
          <a:xfrm>
            <a:off x="-4343400" y="-762120"/>
            <a:ext cx="12344400" cy="7756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990720" y="1828800"/>
            <a:ext cx="71625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he moon and the stars, which you have set in plac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3"/>
          <p:cNvGraphicFramePr/>
          <p:nvPr/>
        </p:nvGraphicFramePr>
        <p:xfrm>
          <a:off x="-533520" y="-90360"/>
          <a:ext cx="9677520" cy="6948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-90360"/>
                    <a:ext cx="9677520" cy="69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2"/>
          <p:cNvSpPr/>
          <p:nvPr/>
        </p:nvSpPr>
        <p:spPr>
          <a:xfrm>
            <a:off x="324000" y="260280"/>
            <a:ext cx="858348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What are mere mortals that you are mindful of them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and1"/>
          <p:cNvPicPr/>
          <p:nvPr/>
        </p:nvPicPr>
        <p:blipFill>
          <a:blip r:embed="rId1"/>
          <a:stretch/>
        </p:blipFill>
        <p:spPr>
          <a:xfrm>
            <a:off x="0" y="0"/>
            <a:ext cx="37116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600200" y="419112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human beings that you care for the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Landscape 093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-609480" y="0"/>
            <a:ext cx="10667880" cy="6934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219320" y="1676520"/>
            <a:ext cx="71625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have made them a little lower than the heavenly being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3276720" y="1752480"/>
            <a:ext cx="2590560" cy="2563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838080" y="5334120"/>
            <a:ext cx="73915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Lord, 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sunset"/>
          <p:cNvPicPr/>
          <p:nvPr/>
        </p:nvPicPr>
        <p:blipFill>
          <a:blip r:embed="rId1"/>
          <a:stretch/>
        </p:blipFill>
        <p:spPr>
          <a:xfrm>
            <a:off x="-1447920" y="0"/>
            <a:ext cx="10591920" cy="692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066680" y="2362320"/>
            <a:ext cx="71629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nd crowned them with glory and honou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flowers"/>
          <p:cNvPicPr/>
          <p:nvPr/>
        </p:nvPicPr>
        <p:blipFill>
          <a:blip r:embed="rId1"/>
          <a:stretch/>
        </p:blipFill>
        <p:spPr>
          <a:xfrm>
            <a:off x="-1219320" y="-36360"/>
            <a:ext cx="10534680" cy="689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09480" y="457200"/>
            <a:ext cx="80773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made them rulers over the works of your hands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eaves"/>
          <p:cNvPicPr/>
          <p:nvPr/>
        </p:nvPicPr>
        <p:blipFill>
          <a:blip r:embed="rId1"/>
          <a:stretch/>
        </p:blipFill>
        <p:spPr>
          <a:xfrm>
            <a:off x="-533520" y="-125280"/>
            <a:ext cx="9677520" cy="6983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09480" y="457200"/>
            <a:ext cx="80773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put everything under their fee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66680" y="2666880"/>
            <a:ext cx="71629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ll flocks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j0178447"/>
          <p:cNvPicPr/>
          <p:nvPr/>
        </p:nvPicPr>
        <p:blipFill>
          <a:blip r:embed="rId1"/>
          <a:stretch/>
        </p:blipFill>
        <p:spPr>
          <a:xfrm>
            <a:off x="-990720" y="0"/>
            <a:ext cx="10591920" cy="706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066680" y="2666880"/>
            <a:ext cx="71629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nd herd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j0178988"/>
          <p:cNvPicPr/>
          <p:nvPr/>
        </p:nvPicPr>
        <p:blipFill>
          <a:blip r:embed="rId1"/>
          <a:stretch/>
        </p:blipFill>
        <p:spPr>
          <a:xfrm>
            <a:off x="-457200" y="-142920"/>
            <a:ext cx="9601200" cy="7000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dove"/>
          <p:cNvPicPr/>
          <p:nvPr/>
        </p:nvPicPr>
        <p:blipFill>
          <a:blip r:embed="rId1"/>
          <a:stretch/>
        </p:blipFill>
        <p:spPr>
          <a:xfrm>
            <a:off x="1143000" y="152280"/>
            <a:ext cx="2867040" cy="2979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1042920" y="3716280"/>
            <a:ext cx="71629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he birds in the sky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7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j0182515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066680" y="281952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nd the fish in the sea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7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j0178772"/>
          <p:cNvPicPr/>
          <p:nvPr/>
        </p:nvPicPr>
        <p:blipFill>
          <a:blip r:embed="rId1"/>
          <a:stretch/>
        </p:blipFill>
        <p:spPr>
          <a:xfrm>
            <a:off x="0" y="-171360"/>
            <a:ext cx="10515600" cy="7029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914400" y="53352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ll that swim the paths of the se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2362320" y="1219320"/>
            <a:ext cx="4190760" cy="4149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3276720" y="1752480"/>
            <a:ext cx="2590560" cy="2563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38080" y="5334120"/>
            <a:ext cx="73915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Lord, 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762120" y="-3124080"/>
            <a:ext cx="7467480" cy="7391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914400" y="3962520"/>
            <a:ext cx="70866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how majestic is your name in all the earth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066680" y="2819520"/>
            <a:ext cx="7162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Franklin Gothic Medium"/>
              </a:rPr>
              <a:t>Psalm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anklin Gothic Medium"/>
              </a:rPr>
              <a:t>(TNI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1981080" y="762120"/>
            <a:ext cx="5334120" cy="5279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609480" y="-609480"/>
            <a:ext cx="8077320" cy="7995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762120" y="-3124080"/>
            <a:ext cx="7467480" cy="7391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914400" y="3962520"/>
            <a:ext cx="70866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How majestic is your name in all the earth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j018277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00200" y="1006560"/>
            <a:ext cx="7391520" cy="5851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80880" y="304920"/>
            <a:ext cx="80773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have set your glory above the heave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H01716J"/>
          <p:cNvPicPr/>
          <p:nvPr/>
        </p:nvPicPr>
        <p:blipFill>
          <a:blip r:embed="rId1"/>
          <a:stretch/>
        </p:blipFill>
        <p:spPr>
          <a:xfrm>
            <a:off x="-685800" y="-203040"/>
            <a:ext cx="10591920" cy="7061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36960" y="3773520"/>
            <a:ext cx="56386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hrough the praise of children and inf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H01716J"/>
          <p:cNvPicPr/>
          <p:nvPr/>
        </p:nvPicPr>
        <p:blipFill>
          <a:blip r:embed="rId1"/>
          <a:stretch/>
        </p:blipFill>
        <p:spPr>
          <a:xfrm>
            <a:off x="-685800" y="-203040"/>
            <a:ext cx="10591920" cy="7061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200400" y="4114800"/>
            <a:ext cx="563868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have established a stronghold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17:33:32Z</dcterms:created>
  <dc:creator>setup1-01</dc:creator>
  <dc:description/>
  <dc:language>en-US</dc:language>
  <cp:lastModifiedBy>James Lawrence</cp:lastModifiedBy>
  <dcterms:modified xsi:type="dcterms:W3CDTF">2018-08-03T10:21:03Z</dcterms:modified>
  <cp:revision>23</cp:revision>
  <dc:subject/>
  <dc:title>PowerPoint Presentation</dc:title>
</cp:coreProperties>
</file>