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jpeg" ContentType="image/jpeg"/>
  <Override PartName="/ppt/media/image2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6.png" ContentType="image/png"/>
  <Override PartName="/ppt/media/image34.wmf" ContentType="image/x-wmf"/>
  <Override PartName="/ppt/media/image13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5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media/image24.jpeg" ContentType="image/jpeg"/>
  <Override PartName="/ppt/media/image2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78B04B4-3715-4869-A083-B8B7F1E9FD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DEEC-4970-4356-83CB-FAAE670289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76EA806-C74D-431B-952F-87BAC4F646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65C30A-66C3-4828-90E1-E547B97B0D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5A4E704-4082-45E4-9D6E-03C34B2DA4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BBECBCE-D5A0-4DA8-B1E9-46A688CAB6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6757E87-2252-45F3-A3EB-457C28C0D8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4E661B-E1DD-46A4-BDB2-1B8983119A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iscerning Vision (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: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P 5: Res 2 – 1 Oct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CB607E-F875-434B-A3D6-07CF650A06AE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B57ADF-F93F-42A9-8CEE-A6E1DEB45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AD4D1AF-8C18-4014-B29E-BE5CF0E040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6A9C75-E217-47A0-A479-718B132FBC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38EBA18-BE38-44AE-90DE-9C48617517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5B03D0-2F7E-4C8C-9C43-34A9CDF886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5449957-7167-43D1-A63B-0C83A56C95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3130D08-D896-4966-AA26-46FE6A0050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4AA6472-9E0B-433A-8CBE-629C5F9AFA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99085E-EA61-4CD8-AE97-517B610145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7BD747C-5FF3-4C5D-B66B-300CF79CCF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09FC5FE-BEE5-4C89-A7E6-15C0DAF818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0619F3-559D-4CDE-9DA5-082F08E20B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23D93B-D3BD-4E66-90E2-D7AA5DD136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EE1A43-F3D4-44CF-AECE-DE39DECFEE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C61701-AE35-446D-8971-CBEE819567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E81AF5E-20A6-47D7-8074-6411F7762F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E1C662F-A65B-4587-A45B-317E10FFBB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07B2C8C-FAD4-4D9A-9F15-64DCD17C2A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3E6199-8BC5-40AA-A671-56BB2C375F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8CDEA52-CDAE-456D-A345-AB39F2B419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B4FE0D-A4CD-4F24-8E1B-19674D5B2A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D9F679-3844-4385-B5DB-210EE035D8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g: Jesus remember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30CA3B8-167C-4302-AAA7-F00552F8D6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CFFA257-C1EE-4B21-8089-1986EC920C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22DB237-13FA-471C-8E39-DA36CC127D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DA01AF-6618-4F30-BBAD-9141C795A1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705505-D63E-4C4D-A2B4-09136AD7D9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46DBAC5-3A56-482A-B55C-B2CE17CB2F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A114D5-4FDB-4663-BF26-7EC78CA8F5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6BD703C-6798-4E9B-90BD-EF535D10FC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281AFD2-BE43-4969-9617-9C8B285635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03EBCF1-3BB7-4266-8CB1-35AE2E9EC0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2495A3-2DE7-47C1-ADED-3E072AB8F4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77A34A-6A76-4D15-8ACE-4577CB1F79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ckground music he was pierced for our transgres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ad Isa over top slow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y his wounds we are hea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e had no form or majesty that we should look at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thing in his appearance that we should desire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e was despised and rejected by oth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man of suffering acquainted with infirm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d as one from whom others hide their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e was despised, and we held him of no accou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urely he has borne our infirmities and carried our dis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yet we accounted him stricken, struck down by God, and afflic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t he was wounded for our transgressions, crushed for our iniquiti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upon him was the punishment that made us whole, and by his bruises we are heal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By his wounds we are hea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F54FADA-57CF-46A6-A5B5-BF0C7A1507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317811-D94D-4390-B577-8F9B7BCD5B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3CBE6E-B2C1-4CAF-BDD9-C5631BB891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2B8E6AC-5A59-4883-B031-653F0B4E3C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1F552D-5C19-4D00-A66A-F72F783295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1C65D85-2FC5-4B13-A85E-3D6B0EAD59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AC1F531-9282-4C46-B749-4485824838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58AE6F-5518-4C37-8EF5-920F16ED3D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F49BB7-7399-4B47-9250-4121A4C16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891FC71-FE59-43DF-BDE2-A945D49502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6D4B36B-3E9C-4EB9-AF4B-BFBBC737F8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4E0AD0-34F1-4E49-B563-2402100C42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75E06D8-60AB-4745-A53C-3E356620DA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3021C0E-6D8C-43FB-A9B6-1111252B57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169D30-ED16-47DE-8B1B-811F068FE7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76CDF6-1C97-49F5-ABA4-70CAAB172A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C3080E-FD1E-46DA-928F-4798641E6B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A9A6C3-9F5B-4DD0-BDD4-FF8A7CC998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36CB9B-B877-4BBF-A384-E44A95372C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1FE4B3-37A6-45EB-82E1-25E87D2AE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B441F3-3AF7-4778-A6D0-E89779182D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3E1-2134-4363-B184-9BFC8E1373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C69115D-280C-4930-8966-F1EF205227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DE12B5-AB3D-4070-8745-8B9DD2DDA0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3994CDA-EBDF-4DFE-8962-1F86E99FC0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41C851-0337-4F80-8C32-A8BF5A95DA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DBE68F-1945-41B3-82F3-4A6224DE14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24000" y="763560"/>
            <a:ext cx="2552760" cy="191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62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894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0340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62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894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03400" y="7650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962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894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0340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962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894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03400" y="7650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962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894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0340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962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6894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3400" y="7650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F564631F-920A-4EA2-BA9B-1F2AC1BDCB07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853920" y="1773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853560" y="401400"/>
            <a:ext cx="6782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3CBD0FBE-596D-45BC-B558-AC8E5C6E827F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124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129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131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627280" y="5877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Life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84360" y="5805360"/>
            <a:ext cx="806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 flipV="1">
            <a:off x="684360" y="404640"/>
            <a:ext cx="0" cy="540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 rot="5400000">
            <a:off x="-1933200" y="28749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Awareness of God’s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11280" y="587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Book"/>
              </a:rPr>
              <a:t>bi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667640" y="587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Book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 rot="5400000">
            <a:off x="-225360" y="54878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Book"/>
              </a:rPr>
              <a:t>una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 rot="5400000">
            <a:off x="-70920" y="7246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Book"/>
              </a:rPr>
              <a:t>a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0" y="1628640"/>
            <a:ext cx="3960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CONSIDERING CALLING – </a:t>
            </a:r>
            <a:br>
              <a:rPr sz="4400"/>
            </a:b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HY DOES IT MATTER?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70" name="Picture 3" descr="Handshake"/>
          <p:cNvPicPr/>
          <p:nvPr/>
        </p:nvPicPr>
        <p:blipFill>
          <a:blip r:embed="rId1"/>
          <a:stretch/>
        </p:blipFill>
        <p:spPr>
          <a:xfrm>
            <a:off x="317520" y="311040"/>
            <a:ext cx="389412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Rectangle 5"/>
          <p:cNvSpPr/>
          <p:nvPr/>
        </p:nvSpPr>
        <p:spPr>
          <a:xfrm>
            <a:off x="317520" y="311040"/>
            <a:ext cx="84312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j0386303"/>
          <p:cNvPicPr/>
          <p:nvPr/>
        </p:nvPicPr>
        <p:blipFill>
          <a:blip r:embed="rId1"/>
          <a:stretch/>
        </p:blipFill>
        <p:spPr>
          <a:xfrm>
            <a:off x="324000" y="311040"/>
            <a:ext cx="4103640" cy="6235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4578480" y="1484280"/>
            <a:ext cx="3960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Franklin Gothic Book"/>
              </a:rPr>
              <a:t>Identify the three or four things that most matter to yo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Franklin Gothic Book"/>
              </a:rPr>
              <a:t>Are these things really receiving the care, time and attention you want to give them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84360" y="544500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1…2…3…4…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17520" y="311040"/>
            <a:ext cx="84312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MPj03156020000[1]"/>
          <p:cNvPicPr/>
          <p:nvPr/>
        </p:nvPicPr>
        <p:blipFill>
          <a:blip r:embed="rId1"/>
          <a:srcRect l="2077" t="0" r="2077" b="0"/>
          <a:stretch/>
        </p:blipFill>
        <p:spPr>
          <a:xfrm>
            <a:off x="395280" y="290520"/>
            <a:ext cx="8313840" cy="6234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185840" y="549360"/>
            <a:ext cx="67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Medium"/>
              </a:rPr>
              <a:t>A BALANCED LIFE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900000" y="3429000"/>
            <a:ext cx="720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672000" y="3429000"/>
            <a:ext cx="1800000" cy="1152360"/>
          </a:xfrm>
          <a:prstGeom prst="triangle">
            <a:avLst>
              <a:gd name="adj" fmla="val 50000"/>
            </a:avLst>
          </a:prstGeom>
          <a:solidFill>
            <a:srgbClr val="eb6d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971640" y="285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04000" y="285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33%20Plate%20spinning"/>
          <p:cNvPicPr/>
          <p:nvPr/>
        </p:nvPicPr>
        <p:blipFill>
          <a:blip r:embed="rId1"/>
          <a:stretch/>
        </p:blipFill>
        <p:spPr>
          <a:xfrm>
            <a:off x="539640" y="404640"/>
            <a:ext cx="3745080" cy="4991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4" descr="j0386303"/>
          <p:cNvPicPr/>
          <p:nvPr/>
        </p:nvPicPr>
        <p:blipFill>
          <a:blip r:embed="rId2"/>
          <a:stretch/>
        </p:blipFill>
        <p:spPr>
          <a:xfrm>
            <a:off x="4859280" y="836640"/>
            <a:ext cx="3732120" cy="566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j0422737"/>
          <p:cNvPicPr/>
          <p:nvPr/>
        </p:nvPicPr>
        <p:blipFill>
          <a:blip r:embed="rId1"/>
          <a:srcRect l="0" t="19560" r="158" b="14882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5800" y="1628640"/>
            <a:ext cx="8312400" cy="3765600"/>
          </a:xfrm>
          <a:prstGeom prst="rect">
            <a:avLst/>
          </a:prstGeom>
          <a:solidFill>
            <a:srgbClr val="000000">
              <a:alpha val="5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EACH PERSON IS CALLED TO…</a:t>
            </a:r>
            <a:br>
              <a:rPr sz="4000"/>
            </a:b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GLORIFY GOD </a:t>
            </a:r>
            <a:br>
              <a:rPr sz="4000"/>
            </a:b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AND BE FRUITFUL IN </a:t>
            </a: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GOOD WORKS</a:t>
            </a:r>
            <a:br>
              <a:rPr sz="4000"/>
            </a:b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THROUGH A </a:t>
            </a: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SURRENDERED</a:t>
            </a: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 LIFE </a:t>
            </a:r>
            <a:br>
              <a:rPr sz="4000"/>
            </a:b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LEADING TO AN </a:t>
            </a: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ABUNDANT</a:t>
            </a: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 LIFE LIVED OUT IN A </a:t>
            </a: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BLENDED</a:t>
            </a: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 LIFE.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2"/>
          <p:cNvSpPr/>
          <p:nvPr/>
        </p:nvSpPr>
        <p:spPr>
          <a:xfrm>
            <a:off x="431640" y="1268280"/>
            <a:ext cx="8280720" cy="4897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757160" y="1989000"/>
            <a:ext cx="25081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Occup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598920" y="3049560"/>
            <a:ext cx="2016000" cy="1317600"/>
          </a:xfrm>
          <a:prstGeom prst="ellipse">
            <a:avLst/>
          </a:prstGeom>
          <a:solidFill>
            <a:srgbClr val="eb6d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4572000" y="1414440"/>
            <a:ext cx="0" cy="151308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 flipV="1">
            <a:off x="5782320" y="2779560"/>
            <a:ext cx="1396800" cy="58212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2107800" y="2810880"/>
            <a:ext cx="1329480" cy="51840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070600" y="1989000"/>
            <a:ext cx="259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Re-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635280" y="3284640"/>
            <a:ext cx="1844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G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5796000" y="342900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826920" y="3394080"/>
            <a:ext cx="2508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piri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4932360" y="4797360"/>
            <a:ext cx="2508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847880" y="4797360"/>
            <a:ext cx="2508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Emo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5706720" y="4250880"/>
            <a:ext cx="1329480" cy="51804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 flipV="1">
            <a:off x="2108880" y="4146480"/>
            <a:ext cx="1396800" cy="58212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4572000" y="4510080"/>
            <a:ext cx="0" cy="151272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1620720" y="260280"/>
            <a:ext cx="590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A BLENDED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41708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Medium"/>
              </a:rPr>
              <a:t>REVIEW SESSION 2 </a:t>
            </a:r>
            <a:br>
              <a:rPr sz="3200"/>
            </a:b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ESTABLISHING IDENTITY</a:t>
            </a: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 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60480" y="26971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John 15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ycles of grief and grac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piritual disciplin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257480" y="1905120"/>
            <a:ext cx="6629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hopes 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drea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4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62120" y="220968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comfort and my secur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Jesus on the cross"/>
          <p:cNvPicPr/>
          <p:nvPr/>
        </p:nvPicPr>
        <p:blipFill>
          <a:blip r:embed="rId1"/>
          <a:stretch/>
        </p:blipFill>
        <p:spPr>
          <a:xfrm>
            <a:off x="-533520" y="-1004760"/>
            <a:ext cx="9906120" cy="824364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66680" y="205740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7200" spc="-1" strike="noStrike">
                <a:solidFill>
                  <a:srgbClr val="ffffff"/>
                </a:solidFill>
                <a:latin typeface="Papyrus"/>
                <a:ea typeface="Times New Roman"/>
              </a:rPr>
              <a:t>my ambition and my desi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990720" y="-1440"/>
            <a:ext cx="7315200" cy="693072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43000" y="160020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pride and my arrogan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655560"/>
            <a:ext cx="754380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b6d21"/>
                </a:solidFill>
                <a:latin typeface="Franklin Gothic Medium"/>
              </a:rPr>
              <a:t>SESSION 3</a:t>
            </a:r>
            <a:r>
              <a:rPr b="0" lang="en-GB" sz="6000" spc="-1" strike="noStrike">
                <a:solidFill>
                  <a:srgbClr val="eb6d21"/>
                </a:solidFill>
                <a:latin typeface="Franklin Gothic Medium"/>
              </a:rPr>
              <a:t> </a:t>
            </a:r>
            <a:br>
              <a:rPr sz="6000"/>
            </a:br>
            <a:r>
              <a:rPr b="0" lang="en-GB" sz="8000" spc="-1" strike="noStrike">
                <a:solidFill>
                  <a:srgbClr val="000000"/>
                </a:solidFill>
                <a:latin typeface="Franklin Gothic Medium"/>
              </a:rPr>
              <a:t>CLARIFYING CALL</a:t>
            </a:r>
            <a:endParaRPr b="0" lang="en-US" sz="8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38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209680" y="76320"/>
            <a:ext cx="5167440" cy="678168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028880" y="1676520"/>
            <a:ext cx="70866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gifts 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pass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rcRect l="0" t="0" r="0" b="64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04920" y="190512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fears and inadequac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rcRect l="10274" t="0" r="10274" b="8461"/>
          <a:stretch/>
        </p:blipFill>
        <p:spPr>
          <a:xfrm>
            <a:off x="2209680" y="1447920"/>
            <a:ext cx="4724640" cy="4065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0" y="6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empus Sans ITC"/>
              </a:rPr>
              <a:t>Jesus said, ‘If I am lifted up I will draw all people to myself’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5638680"/>
            <a:ext cx="914400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empus Sans ITC"/>
              </a:rPr>
              <a:t>Jesus, remember 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empus Sans ITC"/>
              </a:rPr>
              <a:t>when you come into your king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028880" y="182880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loves and my lik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3"/>
          <p:cNvSpPr/>
          <p:nvPr/>
        </p:nvSpPr>
        <p:spPr>
          <a:xfrm>
            <a:off x="2238480" y="1143000"/>
            <a:ext cx="464796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571920" y="2986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181240" y="4871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3190680" y="3695760"/>
            <a:ext cx="685800" cy="5335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61800" y="19810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7200" spc="-1" strike="noStrike">
                <a:solidFill>
                  <a:srgbClr val="ffffff"/>
                </a:solidFill>
                <a:latin typeface="Papyrus"/>
                <a:ea typeface="Times New Roman"/>
              </a:rPr>
              <a:t>my personality and my preferen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325680" y="17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Image number: RL000037"/>
          <p:cNvPicPr/>
          <p:nvPr/>
        </p:nvPicPr>
        <p:blipFill>
          <a:blip r:embed="rId1"/>
          <a:stretch/>
        </p:blipFill>
        <p:spPr>
          <a:xfrm>
            <a:off x="1720800" y="0"/>
            <a:ext cx="5700600" cy="762012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38080" y="1676520"/>
            <a:ext cx="7086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wealth and </a:t>
            </a:r>
            <a:br>
              <a:rPr sz="6600"/>
            </a:b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pover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800280" y="944640"/>
            <a:ext cx="75438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all that I am,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all that I have,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all that I long fo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97180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0" y="4876920"/>
            <a:ext cx="63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4800" spc="-1" strike="noStrike">
                <a:solidFill>
                  <a:srgbClr val="ffffff"/>
                </a:solidFill>
                <a:latin typeface="Papyrus"/>
                <a:ea typeface="Times New Roman"/>
              </a:rPr>
              <a:t>because you surrendered all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384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giving you my hear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nd all that is with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 lay it all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For the sake of you my King.</a:t>
            </a:r>
            <a:br>
              <a:rPr sz="4400"/>
            </a:b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6537240" y="396252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730920" y="3933720"/>
            <a:ext cx="2413080" cy="2924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411200"/>
            <a:ext cx="5400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5880" indent="-335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clarify what call i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why it matt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suggest a way of discerning God’s call for our liv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how discerning God’s call ought to make a difference to the way we liv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giving you my drea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laying down my righ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giving up my pri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For the promise of a new life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6537240" y="395604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700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nd I surrend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ll to you, all to you.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537240" y="395604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32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singing you this so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waiting at the cros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ll the world holds dea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 count it all as loss.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6537240" y="395604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For the sake of knowing you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For the glory of your nam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To know the lasting jo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Even sharing in your pain.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537240" y="3860640"/>
            <a:ext cx="2606760" cy="289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nd I surrend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ll to you, all to you.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6537240" y="395604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3927600" y="1052640"/>
            <a:ext cx="4579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Aft>
                <a:spcPts val="2401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he inability to priori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401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he inability or unwillingness to organise these pri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401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ack of discipline to maintain and tackle these pri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j0401828"/>
          <p:cNvPicPr/>
          <p:nvPr/>
        </p:nvPicPr>
        <p:blipFill>
          <a:blip r:embed="rId1"/>
          <a:srcRect l="5482" t="0" r="13989" b="0"/>
          <a:stretch/>
        </p:blipFill>
        <p:spPr>
          <a:xfrm>
            <a:off x="338040" y="311040"/>
            <a:ext cx="3348000" cy="62359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"/>
          <p:cNvSpPr/>
          <p:nvPr/>
        </p:nvSpPr>
        <p:spPr>
          <a:xfrm>
            <a:off x="338040" y="311040"/>
            <a:ext cx="8410680" cy="6235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1476360" y="1413000"/>
            <a:ext cx="6645240" cy="34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4400" spc="-1" strike="noStrike">
                <a:solidFill>
                  <a:srgbClr val="000000"/>
                </a:solidFill>
                <a:latin typeface="Franklin Gothic Book"/>
              </a:rPr>
              <a:t>The greatest incentive to saying “no” is having an even greater “yes” burning inside you.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586"/>
                </a:solidFill>
                <a:latin typeface="Franklin Gothic Book"/>
              </a:rPr>
              <a:t>Stephen Co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7280" y="1413000"/>
            <a:ext cx="410508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CONSIDERING CALLING – HOW DO I DISCERN GOD’S CALL?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57" name="Picture 3" descr="Handshake"/>
          <p:cNvPicPr/>
          <p:nvPr/>
        </p:nvPicPr>
        <p:blipFill>
          <a:blip r:embed="rId1"/>
          <a:stretch/>
        </p:blipFill>
        <p:spPr>
          <a:xfrm>
            <a:off x="317520" y="311040"/>
            <a:ext cx="389412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Rectangle 4"/>
          <p:cNvSpPr/>
          <p:nvPr/>
        </p:nvSpPr>
        <p:spPr>
          <a:xfrm>
            <a:off x="317520" y="311040"/>
            <a:ext cx="84312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043280" y="981000"/>
            <a:ext cx="685584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THE FIVE STE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dentify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star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Discern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ere God is l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Develop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personal lif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mplement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personal lif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Revise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your life statement regu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6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7640" y="1628640"/>
            <a:ext cx="4176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CONSIDERING CALLING – WHAT IS IT?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8" name="Picture 3" descr="Handshake"/>
          <p:cNvPicPr/>
          <p:nvPr/>
        </p:nvPicPr>
        <p:blipFill>
          <a:blip r:embed="rId1"/>
          <a:stretch/>
        </p:blipFill>
        <p:spPr>
          <a:xfrm>
            <a:off x="317520" y="311040"/>
            <a:ext cx="389412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Rectangle 1"/>
          <p:cNvSpPr/>
          <p:nvPr/>
        </p:nvSpPr>
        <p:spPr>
          <a:xfrm>
            <a:off x="317520" y="311040"/>
            <a:ext cx="84312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16000" y="395280"/>
            <a:ext cx="69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</a:rPr>
              <a:t>1. IDENTIFY A STARTING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961000" y="3276720"/>
            <a:ext cx="269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eb6d21"/>
                </a:solidFill>
                <a:latin typeface="Franklin Gothic Book"/>
              </a:rPr>
              <a:t>SHAP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08200" y="518148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piritual gi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272480" y="198108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6299280" y="25146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678960" y="243828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Heart’s 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704200" y="518148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670040" y="4190760"/>
            <a:ext cx="1371600" cy="99036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0"/>
          <p:cNvSpPr/>
          <p:nvPr/>
        </p:nvSpPr>
        <p:spPr>
          <a:xfrm flipH="1" flipV="1">
            <a:off x="5556240" y="4114800"/>
            <a:ext cx="914400" cy="99072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5022720" y="2819520"/>
            <a:ext cx="1447920" cy="60948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4489560" y="2438280"/>
            <a:ext cx="380880" cy="99072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2050920" y="2895480"/>
            <a:ext cx="1676520" cy="45720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16360" y="1052640"/>
            <a:ext cx="685584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THE FIVE STE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dentify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star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Discern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ere God is l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Develop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personal lif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mplement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personal lif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Revise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your life statement regu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224000" y="728640"/>
            <a:ext cx="75960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THE EXAMPLE OF JES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</a:rPr>
              <a:t>Mark 1:4-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Knew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 his call (1:4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Call was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tested 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(1:12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Acted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 on his call (1:14-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Shares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 his call with others (1:14-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Exercises his call with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ompassion 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(1:21-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Reinforces his call through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prayer 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(1: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Reaffirms his call through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hard decisions 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(1:36-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brxbxp56719"/>
          <p:cNvPicPr/>
          <p:nvPr/>
        </p:nvPicPr>
        <p:blipFill>
          <a:blip r:embed="rId1"/>
          <a:stretch/>
        </p:blipFill>
        <p:spPr>
          <a:xfrm>
            <a:off x="0" y="0"/>
            <a:ext cx="10287000" cy="68706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"/>
          <p:cNvSpPr/>
          <p:nvPr/>
        </p:nvSpPr>
        <p:spPr>
          <a:xfrm>
            <a:off x="395280" y="162864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O Go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you are my Go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brxbxp56707"/>
          <p:cNvPicPr/>
          <p:nvPr/>
        </p:nvPicPr>
        <p:blipFill>
          <a:blip r:embed="rId1"/>
          <a:stretch/>
        </p:blipFill>
        <p:spPr>
          <a:xfrm>
            <a:off x="458784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12760" y="83664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I long for you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my soul thirsts for you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my flesh yearns for you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in a dry and parched land where the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is no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859280" y="1447920"/>
            <a:ext cx="42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Your loyal love is better  than life itself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my lips will praise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6480" y="792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12760" y="1442880"/>
            <a:ext cx="43592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For you are my deliverer, under your wings I rejoi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My soul pursues you; your right hand uphold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anklin Gothic Medium"/>
              </a:rPr>
              <a:t>Psalm 63 (Net Bi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" descr="brxbxp66804"/>
          <p:cNvPicPr/>
          <p:nvPr/>
        </p:nvPicPr>
        <p:blipFill>
          <a:blip r:embed="rId1"/>
          <a:stretch/>
        </p:blipFill>
        <p:spPr>
          <a:xfrm>
            <a:off x="4811760" y="0"/>
            <a:ext cx="4332240" cy="662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9080" y="169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NEXT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49080" y="2771640"/>
            <a:ext cx="824364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4: Developing charac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Before then: Meet your mentor an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project 3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93" name="Group 18"/>
          <p:cNvGrpSpPr/>
          <p:nvPr/>
        </p:nvGrpSpPr>
        <p:grpSpPr>
          <a:xfrm>
            <a:off x="6327720" y="0"/>
            <a:ext cx="2781360" cy="6858000"/>
            <a:chOff x="6327720" y="0"/>
            <a:chExt cx="2781360" cy="6858000"/>
          </a:xfrm>
        </p:grpSpPr>
        <p:pic>
          <p:nvPicPr>
            <p:cNvPr id="294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32772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8600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71364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4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380880" y="0"/>
            <a:ext cx="3733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Medium"/>
              </a:rPr>
              <a:t>SYMPTOMS OF LIFE IN THE RED ZO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1447920" y="1523880"/>
            <a:ext cx="3504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hysic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447920" y="5410080"/>
            <a:ext cx="365760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pirit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1447920" y="441972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Intellect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1447920" y="34290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Rela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1447920" y="2438280"/>
            <a:ext cx="3657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Emo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1" descr="bs00871_"/>
          <p:cNvPicPr/>
          <p:nvPr/>
        </p:nvPicPr>
        <p:blipFill>
          <a:blip r:embed="rId1"/>
          <a:stretch/>
        </p:blipFill>
        <p:spPr>
          <a:xfrm>
            <a:off x="457200" y="1523880"/>
            <a:ext cx="824040" cy="838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2" descr="bs00871_"/>
          <p:cNvPicPr/>
          <p:nvPr/>
        </p:nvPicPr>
        <p:blipFill>
          <a:blip r:embed="rId2"/>
          <a:stretch/>
        </p:blipFill>
        <p:spPr>
          <a:xfrm>
            <a:off x="457200" y="2514600"/>
            <a:ext cx="824040" cy="838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3" descr="bs00871_"/>
          <p:cNvPicPr/>
          <p:nvPr/>
        </p:nvPicPr>
        <p:blipFill>
          <a:blip r:embed="rId3"/>
          <a:stretch/>
        </p:blipFill>
        <p:spPr>
          <a:xfrm>
            <a:off x="457200" y="3505320"/>
            <a:ext cx="824040" cy="838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4" descr="bs00871_"/>
          <p:cNvPicPr/>
          <p:nvPr/>
        </p:nvPicPr>
        <p:blipFill>
          <a:blip r:embed="rId4"/>
          <a:stretch/>
        </p:blipFill>
        <p:spPr>
          <a:xfrm>
            <a:off x="457200" y="4495680"/>
            <a:ext cx="824040" cy="838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5" descr="bs00871_"/>
          <p:cNvPicPr/>
          <p:nvPr/>
        </p:nvPicPr>
        <p:blipFill>
          <a:blip r:embed="rId5"/>
          <a:stretch/>
        </p:blipFill>
        <p:spPr>
          <a:xfrm>
            <a:off x="471600" y="5486400"/>
            <a:ext cx="823680" cy="8380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6"/>
          <p:cNvSpPr/>
          <p:nvPr/>
        </p:nvSpPr>
        <p:spPr>
          <a:xfrm>
            <a:off x="5486400" y="15238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de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5486400" y="342900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di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5486400" y="24382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d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5486400" y="4419720"/>
            <a:ext cx="3505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s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0"/>
          <p:cNvSpPr/>
          <p:nvPr/>
        </p:nvSpPr>
        <p:spPr>
          <a:xfrm>
            <a:off x="5486400" y="53974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disillus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1"/>
          <p:cNvSpPr/>
          <p:nvPr/>
        </p:nvSpPr>
        <p:spPr>
          <a:xfrm>
            <a:off x="5105520" y="561960"/>
            <a:ext cx="2133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Medium"/>
              </a:rPr>
              <a:t>…</a:t>
            </a:r>
            <a:r>
              <a:rPr b="0" lang="en-GB" sz="2400" spc="-1" strike="noStrike">
                <a:solidFill>
                  <a:srgbClr val="005586"/>
                </a:solidFill>
                <a:latin typeface="Franklin Gothic Medium"/>
              </a:rPr>
              <a:t>IF IGN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2"/>
          <p:cNvSpPr/>
          <p:nvPr/>
        </p:nvSpPr>
        <p:spPr>
          <a:xfrm>
            <a:off x="4299120" y="2025720"/>
            <a:ext cx="958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3"/>
          <p:cNvSpPr/>
          <p:nvPr/>
        </p:nvSpPr>
        <p:spPr>
          <a:xfrm>
            <a:off x="4295880" y="2940120"/>
            <a:ext cx="958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4"/>
          <p:cNvSpPr/>
          <p:nvPr/>
        </p:nvSpPr>
        <p:spPr>
          <a:xfrm>
            <a:off x="4299120" y="3933720"/>
            <a:ext cx="958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5"/>
          <p:cNvSpPr/>
          <p:nvPr/>
        </p:nvSpPr>
        <p:spPr>
          <a:xfrm>
            <a:off x="4299120" y="4908600"/>
            <a:ext cx="958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6"/>
          <p:cNvSpPr/>
          <p:nvPr/>
        </p:nvSpPr>
        <p:spPr>
          <a:xfrm>
            <a:off x="4267080" y="5899320"/>
            <a:ext cx="959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7960" y="1484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AGREE/DISAGREE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676520" y="2514600"/>
            <a:ext cx="6019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Use your </a:t>
            </a:r>
            <a:r>
              <a:rPr b="0" lang="en-GB" sz="2800" spc="-1" strike="noStrike">
                <a:solidFill>
                  <a:srgbClr val="0066ff"/>
                </a:solidFill>
                <a:latin typeface="Franklin Gothic Book"/>
              </a:rPr>
              <a:t>blue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stickers to show where you strongly 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2c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Use your </a:t>
            </a:r>
            <a:r>
              <a:rPr b="0" lang="en-GB" sz="2800" spc="-1" strike="noStrike">
                <a:solidFill>
                  <a:srgbClr val="ff3300"/>
                </a:solidFill>
                <a:latin typeface="Franklin Gothic Book"/>
              </a:rPr>
              <a:t>red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stickers to show where you strongly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-541440" y="551664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Question marks.jpg"/>
          <p:cNvPicPr/>
          <p:nvPr/>
        </p:nvPicPr>
        <p:blipFill>
          <a:blip r:embed="rId1"/>
          <a:stretch/>
        </p:blipFill>
        <p:spPr>
          <a:xfrm>
            <a:off x="0" y="74628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360" y="493992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HOW’S THE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JOURNEY?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4560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PRIMARY CALLING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discipleship (Mark 2:17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116000" y="237024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PARTICULAR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138320" y="3298680"/>
            <a:ext cx="6324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iscern God’s particular call for our life (Romans 1:1, Acts 8, Colossians 3:17, 2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C:\Users\jamesl\AppData\Local\Microsoft\Windows\Temporary Internet Files\Content.IE5\5DPS72JC\MP900384794[1].jpg"/>
          <p:cNvPicPr/>
          <p:nvPr/>
        </p:nvPicPr>
        <p:blipFill>
          <a:blip r:embed="rId1"/>
          <a:stretch/>
        </p:blipFill>
        <p:spPr>
          <a:xfrm>
            <a:off x="6300720" y="4508640"/>
            <a:ext cx="2479680" cy="198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9-09T17:05:55Z</dcterms:modified>
  <cp:revision>129</cp:revision>
  <dc:subject/>
  <dc:title>PowerPoint Presentation</dc:title>
</cp:coreProperties>
</file>