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4.png" ContentType="image/png"/>
  <Override PartName="/ppt/media/image1.png" ContentType="image/png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36.jpeg" ContentType="image/jpeg"/>
  <Override PartName="/ppt/media/image41.jpeg" ContentType="image/jpeg"/>
  <Override PartName="/ppt/media/image6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9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4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B88D-CF5B-47DB-A1A5-765B005809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1324-646E-445C-A7DB-A6CE8186451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529B-6487-4C7A-902F-A67F07F47C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320840" y="3200400"/>
            <a:ext cx="4116240" cy="59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8E10-DDBD-48CE-960A-7BF5C7ADA1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320840" y="3200400"/>
            <a:ext cx="4116240" cy="59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C749-3517-4F11-8331-E16582E4C1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576440" y="826920"/>
            <a:ext cx="3722760" cy="2792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3843360"/>
            <a:ext cx="4984560" cy="53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816C-080A-4CF2-8675-212F64B831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F09C-5E64-49A5-9DFA-9D43FCDF15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1161-052A-462A-A914-8E07F9A68E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FC2E-EE60-4DDA-9D55-3164395A4B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1320840" y="3200400"/>
            <a:ext cx="4116240" cy="59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8E55-0F40-4284-870F-B0D0368BE9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320840" y="3200400"/>
            <a:ext cx="4116240" cy="59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20A3-9767-4E20-A225-98D7A929BF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320840" y="3200400"/>
            <a:ext cx="4116240" cy="59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9241-A43B-4016-975B-BE0B2D774D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2880" y="4716000"/>
            <a:ext cx="4962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574E-2CCB-44E2-BF1B-2D37A2B26B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C415-20F9-4AB4-8BE6-3950028A54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2880" y="4716000"/>
            <a:ext cx="4962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E91A-9956-45D3-99EB-C7EB1FB26B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320840" y="3200400"/>
            <a:ext cx="4116240" cy="59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alvett"/>
              <a:ea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32B6-E578-4AEE-896A-F1F9C145BF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0840" y="3200400"/>
            <a:ext cx="4116240" cy="59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alvett"/>
              <a:ea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3AB1-C385-4485-B222-8A2CAF54BD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86BC-AC8F-48F8-A4CD-350F1612C0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0258-251C-40D3-9CF8-826BE4AEBA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D8D9-1F2B-40B7-AF98-6E393AAC24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320840" y="3200400"/>
            <a:ext cx="4116240" cy="59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ERCI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st the things that have grown you as a l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17AF-6F0A-4FEB-B35C-F7B83E0F52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576440" y="826920"/>
            <a:ext cx="3722760" cy="27925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6480" y="3841560"/>
            <a:ext cx="4984560" cy="53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aining for 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cus on team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OTE ‘Never give a team leadership role to someone without training.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ach generic roles three cir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.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ery hard to grow leaders, choose people who are leaders  alrea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. Line managers as l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ople learn about leaders from those who apprentice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st done on the job, therefore mentors not as helpful (also often not leaders themselv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4. The chance to l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ganisations provide necessary conditions for growth, chief of these is the chance to l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llenge level not too difficult/easy therefore stre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5. Education for 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t you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deally need experience to reflect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6. Strategy for leadership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ed long term, importance, multi-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7. Chief Execu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EO leads the process from the fr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 by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BEE9-789B-4A87-9675-7326015307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8340-00D2-42F2-93EB-34F416B8BD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2880" y="4716000"/>
            <a:ext cx="4962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82AA-4824-4A89-BFF5-5B2DD88F0D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09E3-0EAA-495D-82AD-5811DF2F5B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20840" y="3200400"/>
            <a:ext cx="4116240" cy="59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3396-F743-487A-A47E-2DC451D59D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703520" y="1003320"/>
            <a:ext cx="3457440" cy="25923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45680" y="3954240"/>
            <a:ext cx="5977080" cy="52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1E91-D0A3-4D66-9424-778380ADC6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320840" y="3200400"/>
            <a:ext cx="4116240" cy="59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1071-FAD8-4721-85CA-D6565D31E2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320840" y="3200400"/>
            <a:ext cx="4116240" cy="59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14E7-D8CB-4F4C-A3D7-C0A78FC812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576440" y="826920"/>
            <a:ext cx="3722760" cy="27925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6480" y="3843360"/>
            <a:ext cx="4984560" cy="53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5E00-A5E1-4D28-92DB-7ED45371AC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B061-8077-4827-BE93-B21377BD63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574640" y="826920"/>
            <a:ext cx="3722760" cy="27925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06480" y="3843360"/>
            <a:ext cx="4984560" cy="53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C766-82D4-4B4C-B575-7256325B98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320840" y="3200400"/>
            <a:ext cx="4116240" cy="59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8646-244B-418C-822F-50FBFFCC9A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86920" y="405756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2360" y="19080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6920" y="405756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2360" y="405756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79760" y="19080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72960" y="19080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86920" y="40575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79760" y="40575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72960" y="40575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86920" y="190800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2360" y="190800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67820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2360" y="190800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86920" y="405756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86920" y="190800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2360" y="19080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2360" y="405756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2360" y="19080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86920" y="405756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86920" y="405756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2360" y="19080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6920" y="405756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2360" y="405756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79760" y="19080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772960" y="19080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86920" y="40575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79760" y="40575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772960" y="40575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2360" y="190800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67820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2360" y="190800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86920" y="405756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2360" y="19080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2360" y="405756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2360" y="19080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6920" y="405756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6920" y="190800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Text Box 30"/>
          <p:cNvSpPr/>
          <p:nvPr/>
        </p:nvSpPr>
        <p:spPr>
          <a:xfrm>
            <a:off x="7238880" y="6583320"/>
            <a:ext cx="1828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Slide </a:t>
            </a:r>
            <a:fld id="{E1777389-7582-4E0D-96CB-885DEF582B8F}" type="slidenum"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Text Box 28"/>
          <p:cNvSpPr/>
          <p:nvPr/>
        </p:nvSpPr>
        <p:spPr>
          <a:xfrm>
            <a:off x="7238880" y="6583320"/>
            <a:ext cx="1828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Slide </a:t>
            </a:r>
            <a:fld id="{EC33995C-645D-49EC-BC88-BBC4294720A0}" type="slidenum"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23.jpeg"/><Relationship Id="rId15" Type="http://schemas.openxmlformats.org/officeDocument/2006/relationships/image" Target="../media/image24.jpeg"/><Relationship Id="rId16" Type="http://schemas.openxmlformats.org/officeDocument/2006/relationships/image" Target="../media/image25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8"/>
          <p:cNvGrpSpPr/>
          <p:nvPr/>
        </p:nvGrpSpPr>
        <p:grpSpPr>
          <a:xfrm>
            <a:off x="6183360" y="0"/>
            <a:ext cx="2781360" cy="6858000"/>
            <a:chOff x="6183360" y="0"/>
            <a:chExt cx="2781360" cy="6858000"/>
          </a:xfrm>
        </p:grpSpPr>
        <p:pic>
          <p:nvPicPr>
            <p:cNvPr id="86" name="Picture 15" descr="Hoop_green.jpg"/>
            <p:cNvPicPr/>
            <p:nvPr/>
          </p:nvPicPr>
          <p:blipFill>
            <a:blip r:embed="rId1"/>
            <a:stretch/>
          </p:blipFill>
          <p:spPr>
            <a:xfrm>
              <a:off x="6183360" y="3213000"/>
              <a:ext cx="2018880" cy="16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16" descr="Hoop_orange.jpg"/>
            <p:cNvPicPr/>
            <p:nvPr/>
          </p:nvPicPr>
          <p:blipFill>
            <a:blip r:embed="rId2"/>
            <a:stretch/>
          </p:blipFill>
          <p:spPr>
            <a:xfrm>
              <a:off x="6641640" y="548640"/>
              <a:ext cx="232308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14" descr="Branch.jpg"/>
            <p:cNvPicPr/>
            <p:nvPr/>
          </p:nvPicPr>
          <p:blipFill>
            <a:blip r:embed="rId3"/>
            <a:stretch/>
          </p:blipFill>
          <p:spPr>
            <a:xfrm>
              <a:off x="6569280" y="0"/>
              <a:ext cx="1941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TextBox 6"/>
          <p:cNvSpPr/>
          <p:nvPr/>
        </p:nvSpPr>
        <p:spPr>
          <a:xfrm>
            <a:off x="1014480" y="2055960"/>
            <a:ext cx="7950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5586"/>
                </a:solidFill>
                <a:latin typeface="Franklin Gothic Medium"/>
                <a:ea typeface="Arial"/>
              </a:rPr>
              <a:t>GROWING LEADERS COURS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12"/>
          <p:cNvGrpSpPr/>
          <p:nvPr/>
        </p:nvGrpSpPr>
        <p:grpSpPr>
          <a:xfrm>
            <a:off x="3132000" y="104960880"/>
            <a:ext cx="3800160" cy="10299600"/>
            <a:chOff x="3132000" y="104960880"/>
            <a:chExt cx="3800160" cy="10299600"/>
          </a:xfrm>
        </p:grpSpPr>
        <p:pic>
          <p:nvPicPr>
            <p:cNvPr id="91" name="Picture 13" descr="Hoop-black"/>
            <p:cNvPicPr/>
            <p:nvPr/>
          </p:nvPicPr>
          <p:blipFill>
            <a:blip r:embed="rId4"/>
            <a:stretch/>
          </p:blipFill>
          <p:spPr>
            <a:xfrm>
              <a:off x="3132000" y="109233000"/>
              <a:ext cx="2638440" cy="214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" name="Group 14"/>
            <p:cNvGrpSpPr/>
            <p:nvPr/>
          </p:nvGrpSpPr>
          <p:grpSpPr>
            <a:xfrm>
              <a:off x="4016520" y="104960880"/>
              <a:ext cx="2915640" cy="10299600"/>
              <a:chOff x="4016520" y="104960880"/>
              <a:chExt cx="2915640" cy="10299600"/>
            </a:xfrm>
          </p:grpSpPr>
          <p:pic>
            <p:nvPicPr>
              <p:cNvPr id="93" name="Picture 15" descr=""/>
              <p:cNvPicPr/>
              <p:nvPr/>
            </p:nvPicPr>
            <p:blipFill>
              <a:blip r:embed="rId5"/>
              <a:srcRect l="-1829" t="-1216" r="0" b="-1515"/>
              <a:stretch/>
            </p:blipFill>
            <p:spPr>
              <a:xfrm flipH="1">
                <a:off x="4370760" y="105824880"/>
                <a:ext cx="2423520" cy="173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16" descr="Curve_orange"/>
              <p:cNvPicPr/>
              <p:nvPr/>
            </p:nvPicPr>
            <p:blipFill>
              <a:blip r:embed="rId6"/>
              <a:srcRect l="-3210" t="19915" r="0" b="3255"/>
              <a:stretch/>
            </p:blipFill>
            <p:spPr>
              <a:xfrm rot="10800000">
                <a:off x="4016520" y="104960880"/>
                <a:ext cx="2915640" cy="10299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5" name="Rectangle 17"/>
          <p:cNvSpPr/>
          <p:nvPr/>
        </p:nvSpPr>
        <p:spPr>
          <a:xfrm>
            <a:off x="107118000" y="105011640"/>
            <a:ext cx="4542120" cy="10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" descr=""/>
          <p:cNvPicPr/>
          <p:nvPr/>
        </p:nvPicPr>
        <p:blipFill>
          <a:blip r:embed="rId7"/>
          <a:stretch/>
        </p:blipFill>
        <p:spPr>
          <a:xfrm>
            <a:off x="527040" y="-243000"/>
            <a:ext cx="1812960" cy="1812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32000" y="1760400"/>
            <a:ext cx="5796000" cy="333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Franklin Gothic Book"/>
              </a:rPr>
              <a:t>How do you tell the difference between an unlikely prospect and a unwise?</a:t>
            </a:r>
            <a:endParaRPr b="0" lang="en-US" sz="40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144" name="Picture 3" descr="j0401828.jpg"/>
          <p:cNvPicPr/>
          <p:nvPr/>
        </p:nvPicPr>
        <p:blipFill>
          <a:blip r:embed="rId1"/>
          <a:srcRect l="8646" t="0" r="34688" b="0"/>
          <a:stretch/>
        </p:blipFill>
        <p:spPr>
          <a:xfrm>
            <a:off x="324000" y="311040"/>
            <a:ext cx="2355840" cy="62359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"/>
          <p:cNvSpPr/>
          <p:nvPr/>
        </p:nvSpPr>
        <p:spPr>
          <a:xfrm>
            <a:off x="324000" y="311040"/>
            <a:ext cx="842472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850920" y="1557000"/>
            <a:ext cx="44658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Jesus appoints the disciples to be with him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Takes intention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Takes tim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Takes its tol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0" y="0"/>
            <a:ext cx="9144000" cy="1047600"/>
          </a:xfrm>
          <a:prstGeom prst="rect">
            <a:avLst/>
          </a:prstGeom>
          <a:solidFill>
            <a:srgbClr val="00558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STAGE 2 – INVEST (MARK 3:1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4" descr="MPj04243940000[1]"/>
          <p:cNvPicPr/>
          <p:nvPr/>
        </p:nvPicPr>
        <p:blipFill>
          <a:blip r:embed="rId1"/>
          <a:srcRect l="0" t="689" r="0" b="0"/>
          <a:stretch/>
        </p:blipFill>
        <p:spPr>
          <a:xfrm>
            <a:off x="466560" y="1700280"/>
            <a:ext cx="3059280" cy="202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Oval 2"/>
          <p:cNvSpPr/>
          <p:nvPr/>
        </p:nvSpPr>
        <p:spPr>
          <a:xfrm>
            <a:off x="1447920" y="457200"/>
            <a:ext cx="6324480" cy="5943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4d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2247840" y="1143000"/>
            <a:ext cx="4648320" cy="3581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eb6d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564000" y="293364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586"/>
                </a:solidFill>
                <a:latin typeface="Franklin Gothic Medium"/>
              </a:rPr>
              <a:t>CH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190600" y="4871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586"/>
                </a:solidFill>
                <a:latin typeface="Franklin Gothic Medium"/>
              </a:rPr>
              <a:t>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992840" y="4871880"/>
            <a:ext cx="218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586"/>
                </a:solidFill>
                <a:latin typeface="Franklin Gothic Medium"/>
              </a:rPr>
              <a:t>CHAR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3357720" y="6094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586"/>
                </a:solidFill>
                <a:latin typeface="Franklin Gothic Medium"/>
              </a:rPr>
              <a:t>COMPE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 flipH="1">
            <a:off x="3200040" y="3695760"/>
            <a:ext cx="685800" cy="533520"/>
          </a:xfrm>
          <a:prstGeom prst="line">
            <a:avLst/>
          </a:prstGeom>
          <a:ln w="38160">
            <a:solidFill>
              <a:srgbClr val="004d9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5184000" y="3708000"/>
            <a:ext cx="644760" cy="582120"/>
          </a:xfrm>
          <a:prstGeom prst="line">
            <a:avLst/>
          </a:prstGeom>
          <a:ln w="38160">
            <a:solidFill>
              <a:srgbClr val="004d9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4572000" y="1775520"/>
            <a:ext cx="0" cy="868680"/>
          </a:xfrm>
          <a:prstGeom prst="line">
            <a:avLst/>
          </a:prstGeom>
          <a:ln w="38160">
            <a:solidFill>
              <a:srgbClr val="004d9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6553080" y="200016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586"/>
                </a:solidFill>
                <a:latin typeface="Franklin Gothic Medium"/>
              </a:rPr>
              <a:t>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31640" y="1197000"/>
            <a:ext cx="53276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WHY DEVELOP?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108240" y="2232000"/>
            <a:ext cx="5616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dentify five reasons why developing leaders is goo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ow list them in order of prior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3" descr="j0401828.jpg"/>
          <p:cNvPicPr/>
          <p:nvPr/>
        </p:nvPicPr>
        <p:blipFill>
          <a:blip r:embed="rId1"/>
          <a:srcRect l="8646" t="0" r="34688" b="0"/>
          <a:stretch/>
        </p:blipFill>
        <p:spPr>
          <a:xfrm>
            <a:off x="324000" y="311040"/>
            <a:ext cx="2355840" cy="62359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324000" y="311040"/>
            <a:ext cx="842472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41720" y="1484280"/>
            <a:ext cx="531792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WHY DEVELOP?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182760" y="2492280"/>
            <a:ext cx="5123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st three answers to the question ‘Why don’t I develop leaders?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j0401828.jpg"/>
          <p:cNvPicPr/>
          <p:nvPr/>
        </p:nvPicPr>
        <p:blipFill>
          <a:blip r:embed="rId1"/>
          <a:srcRect l="8646" t="0" r="34688" b="0"/>
          <a:stretch/>
        </p:blipFill>
        <p:spPr>
          <a:xfrm>
            <a:off x="324000" y="311040"/>
            <a:ext cx="2355840" cy="62359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5"/>
          <p:cNvSpPr/>
          <p:nvPr/>
        </p:nvSpPr>
        <p:spPr>
          <a:xfrm>
            <a:off x="324000" y="311040"/>
            <a:ext cx="842472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0149024"/>
          <p:cNvPicPr/>
          <p:nvPr/>
        </p:nvPicPr>
        <p:blipFill>
          <a:blip r:embed="rId1"/>
          <a:srcRect l="6417" t="0" r="5650" b="2643"/>
          <a:stretch/>
        </p:blipFill>
        <p:spPr>
          <a:xfrm>
            <a:off x="415800" y="311040"/>
            <a:ext cx="8312400" cy="62359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4"/>
          <p:cNvSpPr/>
          <p:nvPr/>
        </p:nvSpPr>
        <p:spPr>
          <a:xfrm>
            <a:off x="3492360" y="300600"/>
            <a:ext cx="49672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klin Gothic Medium"/>
              </a:rPr>
              <a:t>Lord Jesus, by your Spirit please help N to overcome these difficulties and to be a person who for the sake of many invests in a few. A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779640" y="1484280"/>
            <a:ext cx="48956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7960" indent="-237960">
              <a:lnSpc>
                <a:spcPct val="115000"/>
              </a:lnSpc>
              <a:spcBef>
                <a:spcPts val="700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Jesus appoints the disciples to go out for him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0" y="0"/>
            <a:ext cx="9144000" cy="1047600"/>
          </a:xfrm>
          <a:prstGeom prst="rect">
            <a:avLst/>
          </a:prstGeom>
          <a:solidFill>
            <a:srgbClr val="00558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STAGE 3 – ENTRUST (MARK 3:1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MPj04243940000[1]"/>
          <p:cNvPicPr/>
          <p:nvPr/>
        </p:nvPicPr>
        <p:blipFill>
          <a:blip r:embed="rId1"/>
          <a:srcRect l="0" t="689" r="0" b="0"/>
          <a:stretch/>
        </p:blipFill>
        <p:spPr>
          <a:xfrm>
            <a:off x="466560" y="1585800"/>
            <a:ext cx="3059280" cy="20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1346040" y="2222640"/>
            <a:ext cx="60343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Jesus grew </a:t>
            </a:r>
            <a:br>
              <a:rPr sz="4400"/>
            </a:b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l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328760" y="4361040"/>
            <a:ext cx="640872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Consider Mark 3-6. What insights do you gain on entrusting others with leadership responsibil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0"/>
            <a:ext cx="9144000" cy="1047600"/>
          </a:xfrm>
          <a:prstGeom prst="rect">
            <a:avLst/>
          </a:prstGeom>
          <a:solidFill>
            <a:srgbClr val="00558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Franklin Gothic Medium"/>
              </a:rPr>
              <a:t>STAGE 3 – ENTRU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9" descr="C:\Users\jamesl\AppData\Local\Microsoft\Windows\Temporary Internet Files\Content.IE5\5DPS72JC\MP900384794[1].jpg"/>
          <p:cNvPicPr/>
          <p:nvPr/>
        </p:nvPicPr>
        <p:blipFill>
          <a:blip r:embed="rId1"/>
          <a:stretch/>
        </p:blipFill>
        <p:spPr>
          <a:xfrm>
            <a:off x="4716360" y="1484280"/>
            <a:ext cx="3343320" cy="2674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46200" y="1052640"/>
            <a:ext cx="633888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‘</a:t>
            </a: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For Jesus the bottom line wasn’t just getting the job done. It was developing others and getting the job done.’</a:t>
            </a:r>
            <a:endParaRPr b="0" lang="en-US" sz="36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546200" y="4149720"/>
            <a:ext cx="216216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6"/>
                </a:solidFill>
                <a:latin typeface="Franklin Gothic Book"/>
              </a:rPr>
              <a:t>Leighton Ford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-541440" y="5602320"/>
            <a:ext cx="1573200" cy="155880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5"/>
          <p:cNvSpPr/>
          <p:nvPr/>
        </p:nvSpPr>
        <p:spPr>
          <a:xfrm>
            <a:off x="8558280" y="620640"/>
            <a:ext cx="1171440" cy="118584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00400" y="693720"/>
            <a:ext cx="5943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5586"/>
                </a:solidFill>
                <a:latin typeface="Franklin Gothic Medium"/>
              </a:rPr>
              <a:t>COMMON BLOCKAGES</a:t>
            </a:r>
            <a:endParaRPr b="0" lang="en-US" sz="40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76360" y="1905120"/>
            <a:ext cx="5111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Middle-class model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Using only those who’ve already led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Our own insecurit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2" name="Picture 6" descr="Image result for red traffic light"/>
          <p:cNvPicPr/>
          <p:nvPr/>
        </p:nvPicPr>
        <p:blipFill>
          <a:blip r:embed="rId1"/>
          <a:srcRect l="13098" t="558" r="57331" b="-548"/>
          <a:stretch/>
        </p:blipFill>
        <p:spPr>
          <a:xfrm>
            <a:off x="279360" y="312840"/>
            <a:ext cx="2779920" cy="62593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4"/>
          <p:cNvSpPr/>
          <p:nvPr/>
        </p:nvSpPr>
        <p:spPr>
          <a:xfrm>
            <a:off x="324000" y="311040"/>
            <a:ext cx="842472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7280" y="1269720"/>
            <a:ext cx="67694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36c23"/>
                </a:solidFill>
                <a:latin typeface="Franklin Gothic Medium"/>
              </a:rPr>
              <a:t>REVIEW SESSION 5 </a:t>
            </a:r>
            <a:br>
              <a:rPr sz="2800"/>
            </a:br>
            <a:r>
              <a:rPr b="0" lang="en-GB" sz="4800" spc="-1" strike="noStrike">
                <a:solidFill>
                  <a:srgbClr val="005586"/>
                </a:solidFill>
                <a:latin typeface="Franklin Gothic Medium"/>
              </a:rPr>
              <a:t>DISCERNING DIRECTION</a:t>
            </a: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269892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Preparing the wa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60360" indent="-36036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Deciding the directio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60360" indent="-36036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Making the journe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76720" y="620280"/>
            <a:ext cx="5867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5586"/>
                </a:solidFill>
                <a:latin typeface="Franklin Gothic Medium"/>
              </a:rPr>
              <a:t>COMMON BLOCKAGES</a:t>
            </a:r>
            <a:endParaRPr b="0" lang="en-US" sz="40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76720" y="1828800"/>
            <a:ext cx="5867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Critical atmospher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Limited view of leadership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No sense of cal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Hierarch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6" name="Picture 6" descr="Image result for red traffic light"/>
          <p:cNvPicPr/>
          <p:nvPr/>
        </p:nvPicPr>
        <p:blipFill>
          <a:blip r:embed="rId1"/>
          <a:srcRect l="13098" t="558" r="57331" b="-548"/>
          <a:stretch/>
        </p:blipFill>
        <p:spPr>
          <a:xfrm>
            <a:off x="341280" y="312840"/>
            <a:ext cx="2779920" cy="625932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324000" y="311040"/>
            <a:ext cx="842472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36c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 algn="ctr">
              <a:lnSpc>
                <a:spcPct val="11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 algn="ctr">
              <a:lnSpc>
                <a:spcPct val="11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 algn="ctr">
              <a:lnSpc>
                <a:spcPct val="11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16000" spc="-1" strike="noStrike">
                <a:solidFill>
                  <a:srgbClr val="ffffff"/>
                </a:solidFill>
                <a:latin typeface="Franklin Gothic Medium"/>
              </a:rPr>
              <a:t>reflect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WHO TO DEVELOP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3505320" y="1676520"/>
            <a:ext cx="5029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how to devel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 algn="ctr">
              <a:lnSpc>
                <a:spcPct val="11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 algn="ctr">
              <a:lnSpc>
                <a:spcPct val="11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18000" spc="-1" strike="noStrike">
                <a:solidFill>
                  <a:srgbClr val="ffffff"/>
                </a:solidFill>
                <a:latin typeface="Franklin Gothic Medium"/>
              </a:rPr>
              <a:t>pray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5554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36c23"/>
                </a:solidFill>
                <a:latin typeface="Franklin Gothic Medium"/>
              </a:rPr>
              <a:t>LORD HEAR US</a:t>
            </a: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3030480" y="4581360"/>
            <a:ext cx="5962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36c23"/>
                </a:solidFill>
                <a:latin typeface="Franklin Gothic Medium"/>
              </a:rPr>
              <a:t>Lord graciously hear 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49080" y="169992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NEXT SESSION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49080" y="2771640"/>
            <a:ext cx="8243640" cy="32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S7: Leading togethe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Date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Venue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Before then: Meet your mento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96" name="Group 18"/>
          <p:cNvGrpSpPr/>
          <p:nvPr/>
        </p:nvGrpSpPr>
        <p:grpSpPr>
          <a:xfrm>
            <a:off x="6327720" y="0"/>
            <a:ext cx="2781360" cy="6858000"/>
            <a:chOff x="6327720" y="0"/>
            <a:chExt cx="2781360" cy="6858000"/>
          </a:xfrm>
        </p:grpSpPr>
        <p:pic>
          <p:nvPicPr>
            <p:cNvPr id="197" name="Picture 15" descr="Hoop_green.jpg"/>
            <p:cNvPicPr/>
            <p:nvPr/>
          </p:nvPicPr>
          <p:blipFill>
            <a:blip r:embed="rId1"/>
            <a:stretch/>
          </p:blipFill>
          <p:spPr>
            <a:xfrm>
              <a:off x="6327720" y="3213000"/>
              <a:ext cx="2018880" cy="16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6" descr="Hoop_orange.jpg"/>
            <p:cNvPicPr/>
            <p:nvPr/>
          </p:nvPicPr>
          <p:blipFill>
            <a:blip r:embed="rId2"/>
            <a:stretch/>
          </p:blipFill>
          <p:spPr>
            <a:xfrm>
              <a:off x="6786000" y="548640"/>
              <a:ext cx="232308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Branch.jpg"/>
            <p:cNvPicPr/>
            <p:nvPr/>
          </p:nvPicPr>
          <p:blipFill>
            <a:blip r:embed="rId3"/>
            <a:stretch/>
          </p:blipFill>
          <p:spPr>
            <a:xfrm>
              <a:off x="6713640" y="0"/>
              <a:ext cx="194184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0" name="Picture 13" descr=""/>
          <p:cNvPicPr/>
          <p:nvPr/>
        </p:nvPicPr>
        <p:blipFill>
          <a:blip r:embed="rId4"/>
          <a:stretch/>
        </p:blipFill>
        <p:spPr>
          <a:xfrm>
            <a:off x="324000" y="-177840"/>
            <a:ext cx="1452240" cy="145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321440" cy="4322520"/>
          </a:xfrm>
          <a:prstGeom prst="rect">
            <a:avLst/>
          </a:prstGeom>
          <a:ln w="0">
            <a:noFill/>
          </a:ln>
        </p:spPr>
      </p:pic>
      <p:sp>
        <p:nvSpPr>
          <p:cNvPr id="202" name="TextBox 3"/>
          <p:cNvSpPr/>
          <p:nvPr/>
        </p:nvSpPr>
        <p:spPr>
          <a:xfrm>
            <a:off x="3087720" y="5373720"/>
            <a:ext cx="450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ter"/>
                <a:ea typeface="MS PGothic"/>
              </a:rPr>
              <a:t>@CPASLead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2" descr="Image result for Twitter"/>
          <p:cNvPicPr/>
          <p:nvPr/>
        </p:nvPicPr>
        <p:blipFill>
          <a:blip r:embed="rId2"/>
          <a:stretch/>
        </p:blipFill>
        <p:spPr>
          <a:xfrm>
            <a:off x="2376360" y="5338800"/>
            <a:ext cx="677880" cy="6778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4"/>
          <p:cNvSpPr/>
          <p:nvPr/>
        </p:nvSpPr>
        <p:spPr>
          <a:xfrm>
            <a:off x="361800" y="311040"/>
            <a:ext cx="8425080" cy="6264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4923000" y="1844640"/>
            <a:ext cx="4248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Franklin Gothic Book"/>
              </a:rPr>
              <a:t>‘</a:t>
            </a:r>
            <a:r>
              <a:rPr b="0" lang="en-GB" sz="4000" spc="-1" strike="noStrike">
                <a:solidFill>
                  <a:srgbClr val="000000"/>
                </a:solidFill>
                <a:latin typeface="Franklin Gothic Book"/>
              </a:rPr>
              <a:t>Trust me. Leadership development never happens accidentally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4" descr="brxbxp66012"/>
          <p:cNvPicPr/>
          <p:nvPr/>
        </p:nvPicPr>
        <p:blipFill>
          <a:blip r:embed="rId1"/>
          <a:stretch/>
        </p:blipFill>
        <p:spPr>
          <a:xfrm>
            <a:off x="304920" y="272880"/>
            <a:ext cx="4163760" cy="626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8" name="Rectangle 1"/>
          <p:cNvSpPr/>
          <p:nvPr/>
        </p:nvSpPr>
        <p:spPr>
          <a:xfrm>
            <a:off x="304920" y="272880"/>
            <a:ext cx="8526240" cy="6264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03640" y="1628640"/>
            <a:ext cx="53388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Franklin Gothic Book"/>
              </a:rPr>
              <a:t>What helped you develop as a leader?</a:t>
            </a:r>
            <a:endParaRPr b="0" lang="en-US" sz="54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210" name="Picture 3" descr="j0401828.jpg"/>
          <p:cNvPicPr/>
          <p:nvPr/>
        </p:nvPicPr>
        <p:blipFill>
          <a:blip r:embed="rId1"/>
          <a:srcRect l="8646" t="0" r="34688" b="0"/>
          <a:stretch/>
        </p:blipFill>
        <p:spPr>
          <a:xfrm>
            <a:off x="324000" y="311040"/>
            <a:ext cx="2355840" cy="62359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4"/>
          <p:cNvSpPr/>
          <p:nvPr/>
        </p:nvSpPr>
        <p:spPr>
          <a:xfrm>
            <a:off x="324000" y="311040"/>
            <a:ext cx="842472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265400" y="2637000"/>
            <a:ext cx="666108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Training for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Line managers as leadership men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The chance to l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Education for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A strategy for leadership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The chief execu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0000" y="566280"/>
            <a:ext cx="50403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HOW TO GROW LEADERS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214" name="Picture 4" descr="0749443634"/>
          <p:cNvPicPr/>
          <p:nvPr/>
        </p:nvPicPr>
        <p:blipFill>
          <a:blip r:embed="rId1"/>
          <a:stretch/>
        </p:blipFill>
        <p:spPr>
          <a:xfrm>
            <a:off x="6659640" y="1125360"/>
            <a:ext cx="1515960" cy="233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6400" y="206280"/>
            <a:ext cx="6869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HOW LEADERS LEARN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47280" y="1098360"/>
            <a:ext cx="75963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Responsibilities - </a:t>
            </a:r>
            <a:r>
              <a:rPr b="0" lang="en-GB" sz="2800" spc="-1" strike="noStrike">
                <a:solidFill>
                  <a:srgbClr val="f36c23"/>
                </a:solidFill>
                <a:latin typeface="Franklin Gothic Book"/>
                <a:ea typeface="Arial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Job assignment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Learning on the job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Relationships – </a:t>
            </a:r>
            <a:r>
              <a:rPr b="0" lang="en-GB" sz="2800" spc="-1" strike="noStrike">
                <a:solidFill>
                  <a:srgbClr val="f36c23"/>
                </a:solidFill>
                <a:latin typeface="Franklin Gothic Book"/>
                <a:ea typeface="Arial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Models, mentors, peer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Learning from other peopl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Shaping experiences - </a:t>
            </a:r>
            <a:r>
              <a:rPr b="0" lang="en-GB" sz="2800" spc="-1" strike="noStrike">
                <a:solidFill>
                  <a:srgbClr val="f36c23"/>
                </a:solidFill>
                <a:latin typeface="Franklin Gothic Book"/>
                <a:ea typeface="Arial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Unique experience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Learning from evaluated experienc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Education - </a:t>
            </a:r>
            <a:r>
              <a:rPr b="0" lang="en-GB" sz="2800" spc="-1" strike="noStrike">
                <a:solidFill>
                  <a:srgbClr val="f36c23"/>
                </a:solidFill>
                <a:latin typeface="Franklin Gothic Book"/>
                <a:ea typeface="Arial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Teaching / training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Learning formally, semi-formally, informall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Oval 5"/>
          <p:cNvSpPr/>
          <p:nvPr/>
        </p:nvSpPr>
        <p:spPr>
          <a:xfrm>
            <a:off x="-541440" y="5602320"/>
            <a:ext cx="1573200" cy="155880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6"/>
          <p:cNvSpPr/>
          <p:nvPr/>
        </p:nvSpPr>
        <p:spPr>
          <a:xfrm>
            <a:off x="8416800" y="333360"/>
            <a:ext cx="1171800" cy="118584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2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5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5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2" dur="500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95640" y="930240"/>
            <a:ext cx="62294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WORKING WITH </a:t>
            </a:r>
            <a:br>
              <a:rPr sz="4400"/>
            </a:b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VOLUNTEERS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95280" y="2660760"/>
            <a:ext cx="51735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What issues do we face when working with volunteers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How should we address them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2" name="Picture 3" descr="j0401828.jpg"/>
          <p:cNvPicPr/>
          <p:nvPr/>
        </p:nvPicPr>
        <p:blipFill>
          <a:blip r:embed="rId1"/>
          <a:srcRect l="8646" t="0" r="34688" b="0"/>
          <a:stretch/>
        </p:blipFill>
        <p:spPr>
          <a:xfrm>
            <a:off x="324000" y="311040"/>
            <a:ext cx="2355840" cy="62359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324000" y="311040"/>
            <a:ext cx="842472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1052280"/>
            <a:ext cx="7543800" cy="31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6c23"/>
                </a:solidFill>
                <a:latin typeface="Franklin Gothic Medium"/>
              </a:rPr>
              <a:t>SESSION 6</a:t>
            </a:r>
            <a:r>
              <a:rPr b="0" lang="en-GB" sz="5400" spc="-1" strike="noStrike">
                <a:solidFill>
                  <a:srgbClr val="f36c23"/>
                </a:solidFill>
                <a:latin typeface="Franklin Gothic Medium"/>
              </a:rPr>
              <a:t> </a:t>
            </a:r>
            <a:br>
              <a:rPr sz="5400"/>
            </a:br>
            <a:r>
              <a:rPr b="0" lang="en-GB" sz="7200" spc="-1" strike="noStrike">
                <a:solidFill>
                  <a:srgbClr val="000000"/>
                </a:solidFill>
                <a:latin typeface="Franklin Gothic Medium"/>
              </a:rPr>
              <a:t>DEVELOPING LEADERS</a:t>
            </a:r>
            <a:endParaRPr b="0" lang="en-US" sz="72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100" name="Picture 13" descr="Hoop_green.jpg"/>
          <p:cNvPicPr/>
          <p:nvPr/>
        </p:nvPicPr>
        <p:blipFill>
          <a:blip r:embed="rId1"/>
          <a:stretch/>
        </p:blipFill>
        <p:spPr>
          <a:xfrm>
            <a:off x="6516720" y="3789360"/>
            <a:ext cx="2352600" cy="1906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Hoop_orange.jpg"/>
          <p:cNvPicPr/>
          <p:nvPr/>
        </p:nvPicPr>
        <p:blipFill>
          <a:blip r:embed="rId2"/>
          <a:stretch/>
        </p:blipFill>
        <p:spPr>
          <a:xfrm>
            <a:off x="6300720" y="4780080"/>
            <a:ext cx="2422440" cy="1733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HEALTHY CHURCHES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Empowering leadership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Gift-oriented lay ministry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Passionate spirituality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Functional structure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16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Inspiring service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Holistic small group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Loving relationship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Need-oriented evangelism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Oval 5"/>
          <p:cNvSpPr/>
          <p:nvPr/>
        </p:nvSpPr>
        <p:spPr>
          <a:xfrm>
            <a:off x="228600" y="1773360"/>
            <a:ext cx="4343400" cy="1079280"/>
          </a:xfrm>
          <a:prstGeom prst="ellipse">
            <a:avLst/>
          </a:prstGeom>
          <a:noFill/>
          <a:ln w="28440">
            <a:solidFill>
              <a:srgbClr val="f36c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1547640" y="1268280"/>
            <a:ext cx="550260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Leaders are needed at all levels.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586"/>
                </a:solidFill>
                <a:latin typeface="Franklin Gothic Book"/>
              </a:rPr>
              <a:t>Peter Brier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he secret of business success is excellence of leadership at all three levels.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586"/>
                </a:solidFill>
                <a:latin typeface="Franklin Gothic Book"/>
              </a:rPr>
              <a:t>John Ad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3"/>
          <p:cNvSpPr/>
          <p:nvPr/>
        </p:nvSpPr>
        <p:spPr>
          <a:xfrm>
            <a:off x="-541440" y="5602320"/>
            <a:ext cx="1573200" cy="155880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4"/>
          <p:cNvSpPr/>
          <p:nvPr/>
        </p:nvSpPr>
        <p:spPr>
          <a:xfrm>
            <a:off x="8416800" y="333360"/>
            <a:ext cx="1171800" cy="118584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99640" y="692280"/>
            <a:ext cx="763452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LEADERSHIP AT EVERY LEVEL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971640" y="2565360"/>
            <a:ext cx="6211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110000"/>
              </a:lnSpc>
              <a:buClr>
                <a:srgbClr val="005586"/>
              </a:buClr>
              <a:buFont typeface="Arial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Overall/strate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10000"/>
              </a:lnSpc>
              <a:buClr>
                <a:srgbClr val="005586"/>
              </a:buClr>
              <a:buFont typeface="Arial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Area/oper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10000"/>
              </a:lnSpc>
              <a:buClr>
                <a:srgbClr val="005586"/>
              </a:buClr>
              <a:buFont typeface="Arial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Small group/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" descr="j0315560"/>
          <p:cNvPicPr/>
          <p:nvPr/>
        </p:nvPicPr>
        <p:blipFill>
          <a:blip r:embed="rId1"/>
          <a:stretch/>
        </p:blipFill>
        <p:spPr>
          <a:xfrm>
            <a:off x="5076720" y="2351160"/>
            <a:ext cx="2971800" cy="212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0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solidFill>
            <a:srgbClr val="00558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I</a:t>
            </a:r>
            <a:br>
              <a:rPr sz="5400"/>
            </a:b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D</a:t>
            </a:r>
            <a:br>
              <a:rPr sz="5400"/>
            </a:b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E</a:t>
            </a:r>
            <a:br>
              <a:rPr sz="5400"/>
            </a:b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N</a:t>
            </a:r>
            <a:br>
              <a:rPr sz="5400"/>
            </a:b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T</a:t>
            </a:r>
            <a:br>
              <a:rPr sz="5400"/>
            </a:b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I</a:t>
            </a:r>
            <a:br>
              <a:rPr sz="5400"/>
            </a:b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F</a:t>
            </a:r>
            <a:br>
              <a:rPr sz="5400"/>
            </a:b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Y</a:t>
            </a:r>
            <a:endParaRPr b="0" lang="en-US" sz="5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83920" y="2924280"/>
            <a:ext cx="7335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Listen to God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Listen for humilit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Listen for faith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Listen for gratitud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Listen for servant-heartednes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36" name="Object 4"/>
          <p:cNvGraphicFramePr/>
          <p:nvPr/>
        </p:nvGraphicFramePr>
        <p:xfrm>
          <a:off x="2908440" y="1112760"/>
          <a:ext cx="10015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8440" y="1112760"/>
                    <a:ext cx="1001520" cy="15242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38" name="Picture 5" descr="Image4"/>
          <p:cNvPicPr/>
          <p:nvPr/>
        </p:nvPicPr>
        <p:blipFill>
          <a:blip r:embed="rId3"/>
          <a:stretch/>
        </p:blipFill>
        <p:spPr>
          <a:xfrm>
            <a:off x="1612800" y="1112760"/>
            <a:ext cx="1100160" cy="1524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9" name="Picture 6" descr="Image12"/>
          <p:cNvPicPr/>
          <p:nvPr/>
        </p:nvPicPr>
        <p:blipFill>
          <a:blip r:embed="rId4"/>
          <a:stretch/>
        </p:blipFill>
        <p:spPr>
          <a:xfrm>
            <a:off x="4127400" y="1112760"/>
            <a:ext cx="1476360" cy="1524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0" name="Picture 7" descr="Image16"/>
          <p:cNvPicPr/>
          <p:nvPr/>
        </p:nvPicPr>
        <p:blipFill>
          <a:blip r:embed="rId5"/>
          <a:stretch/>
        </p:blipFill>
        <p:spPr>
          <a:xfrm>
            <a:off x="5803920" y="1112760"/>
            <a:ext cx="1133280" cy="1524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41" name="Text Box 9"/>
          <p:cNvSpPr/>
          <p:nvPr/>
        </p:nvSpPr>
        <p:spPr>
          <a:xfrm>
            <a:off x="9901080" y="5516640"/>
            <a:ext cx="6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7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2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"/>
          <p:cNvSpPr/>
          <p:nvPr/>
        </p:nvSpPr>
        <p:spPr>
          <a:xfrm>
            <a:off x="1820880" y="1341360"/>
            <a:ext cx="4648320" cy="35816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eb6d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137040" y="31320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586"/>
                </a:solidFill>
                <a:latin typeface="Franklin Gothic Medium"/>
              </a:rPr>
              <a:t>CH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763640" y="5070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586"/>
                </a:solidFill>
                <a:latin typeface="Franklin Gothic Medium"/>
              </a:rPr>
              <a:t>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565520" y="5070600"/>
            <a:ext cx="218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586"/>
                </a:solidFill>
                <a:latin typeface="Franklin Gothic Medium"/>
              </a:rPr>
              <a:t>CHAR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916360" y="80820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586"/>
                </a:solidFill>
                <a:latin typeface="Franklin Gothic Medium"/>
              </a:rPr>
              <a:t>COMPE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7"/>
          <p:cNvSpPr/>
          <p:nvPr/>
        </p:nvSpPr>
        <p:spPr>
          <a:xfrm flipH="1">
            <a:off x="2773080" y="3894120"/>
            <a:ext cx="685800" cy="533520"/>
          </a:xfrm>
          <a:prstGeom prst="line">
            <a:avLst/>
          </a:prstGeom>
          <a:ln w="38160">
            <a:solidFill>
              <a:srgbClr val="00558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4757040" y="3906360"/>
            <a:ext cx="644760" cy="582120"/>
          </a:xfrm>
          <a:prstGeom prst="line">
            <a:avLst/>
          </a:prstGeom>
          <a:ln w="38160">
            <a:solidFill>
              <a:srgbClr val="00558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9"/>
          <p:cNvSpPr/>
          <p:nvPr/>
        </p:nvSpPr>
        <p:spPr>
          <a:xfrm flipV="1">
            <a:off x="4145040" y="1973520"/>
            <a:ext cx="0" cy="868680"/>
          </a:xfrm>
          <a:prstGeom prst="line">
            <a:avLst/>
          </a:prstGeom>
          <a:ln w="38160">
            <a:solidFill>
              <a:srgbClr val="00558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C:\Users\jamesl\Pictures\Microsoft Clip Organizer\00398869.jpg"/>
          <p:cNvPicPr/>
          <p:nvPr/>
        </p:nvPicPr>
        <p:blipFill>
          <a:blip r:embed="rId1"/>
          <a:srcRect l="14629" t="4724" r="32503" b="5504"/>
          <a:stretch/>
        </p:blipFill>
        <p:spPr>
          <a:xfrm>
            <a:off x="6443640" y="3586320"/>
            <a:ext cx="2700360" cy="32716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5698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5586"/>
                </a:solidFill>
                <a:latin typeface="Franklin Gothic Medium"/>
              </a:rPr>
              <a:t>AIMS</a:t>
            </a: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656604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Aft>
                <a:spcPts val="700"/>
              </a:spcAft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To appreciate that growing leaders is an important aspect of leadership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53880" indent="-353880">
              <a:spcAft>
                <a:spcPts val="700"/>
              </a:spcAft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To consider how Jesus identified and developed leader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53880" indent="-353880">
              <a:spcAft>
                <a:spcPts val="700"/>
              </a:spcAft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To encourage participants prayerfully to choose someone to develop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Ventures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391520" y="601560"/>
            <a:ext cx="1495440" cy="1463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Discussion"/>
          <p:cNvPicPr/>
          <p:nvPr/>
        </p:nvPicPr>
        <p:blipFill>
          <a:blip r:embed="rId2"/>
          <a:srcRect l="0" t="0" r="0" b="-1485"/>
          <a:stretch/>
        </p:blipFill>
        <p:spPr>
          <a:xfrm>
            <a:off x="4648320" y="4648320"/>
            <a:ext cx="1828800" cy="1904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KidsStudy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0" y="3733920"/>
            <a:ext cx="1808280" cy="1807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TrainingY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4191120" y="762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youth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1905120" y="533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oldCouple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457200" y="2057400"/>
            <a:ext cx="1765440" cy="1765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OC-manIBM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3352680" y="3657600"/>
            <a:ext cx="1609920" cy="1676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OC-Conference"/>
          <p:cNvPicPr/>
          <p:nvPr/>
        </p:nvPicPr>
        <p:blipFill>
          <a:blip r:embed="rId8">
            <a:lum bright="12000"/>
          </a:blip>
          <a:stretch/>
        </p:blipFill>
        <p:spPr>
          <a:xfrm>
            <a:off x="2209680" y="25909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nagari"/>
          <p:cNvPicPr/>
          <p:nvPr/>
        </p:nvPicPr>
        <p:blipFill>
          <a:blip r:embed="rId9"/>
          <a:stretch/>
        </p:blipFill>
        <p:spPr>
          <a:xfrm>
            <a:off x="1828800" y="4343400"/>
            <a:ext cx="1698480" cy="2146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Ian Parkinson 2"/>
          <p:cNvPicPr/>
          <p:nvPr/>
        </p:nvPicPr>
        <p:blipFill>
          <a:blip r:embed="rId10"/>
          <a:stretch/>
        </p:blipFill>
        <p:spPr>
          <a:xfrm>
            <a:off x="5638680" y="3429000"/>
            <a:ext cx="1791000" cy="1612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weights"/>
          <p:cNvPicPr/>
          <p:nvPr/>
        </p:nvPicPr>
        <p:blipFill>
          <a:blip r:embed="rId11"/>
          <a:stretch/>
        </p:blipFill>
        <p:spPr>
          <a:xfrm>
            <a:off x="0" y="228600"/>
            <a:ext cx="1779480" cy="2039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choi"/>
          <p:cNvPicPr/>
          <p:nvPr/>
        </p:nvPicPr>
        <p:blipFill>
          <a:blip r:embed="rId12"/>
          <a:stretch/>
        </p:blipFill>
        <p:spPr>
          <a:xfrm>
            <a:off x="7315200" y="5105520"/>
            <a:ext cx="1371600" cy="1366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seaside"/>
          <p:cNvPicPr/>
          <p:nvPr/>
        </p:nvPicPr>
        <p:blipFill>
          <a:blip r:embed="rId13"/>
          <a:stretch/>
        </p:blipFill>
        <p:spPr>
          <a:xfrm>
            <a:off x="228600" y="5261040"/>
            <a:ext cx="1373040" cy="1596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j0316864"/>
          <p:cNvPicPr/>
          <p:nvPr/>
        </p:nvPicPr>
        <p:blipFill>
          <a:blip r:embed="rId14"/>
          <a:stretch/>
        </p:blipFill>
        <p:spPr>
          <a:xfrm>
            <a:off x="6629400" y="1892160"/>
            <a:ext cx="2209680" cy="1536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7" descr="break"/>
          <p:cNvPicPr/>
          <p:nvPr/>
        </p:nvPicPr>
        <p:blipFill>
          <a:blip r:embed="rId15"/>
          <a:stretch/>
        </p:blipFill>
        <p:spPr>
          <a:xfrm>
            <a:off x="7270920" y="3733920"/>
            <a:ext cx="1873080" cy="1468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Youth1"/>
          <p:cNvPicPr/>
          <p:nvPr/>
        </p:nvPicPr>
        <p:blipFill>
          <a:blip r:embed="rId16">
            <a:lum bright="18000"/>
          </a:blip>
          <a:stretch/>
        </p:blipFill>
        <p:spPr>
          <a:xfrm>
            <a:off x="4572000" y="2209680"/>
            <a:ext cx="1806480" cy="1806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4416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TWO PRINCIPLES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83760" y="1808280"/>
            <a:ext cx="5232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Everyone can develop leaders through affirmation and encouragemen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For the sake of many invest in a few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32" name="Picture 6" descr="Girl black.jpg"/>
          <p:cNvPicPr/>
          <p:nvPr/>
        </p:nvPicPr>
        <p:blipFill>
          <a:blip r:embed="rId1"/>
          <a:stretch/>
        </p:blipFill>
        <p:spPr>
          <a:xfrm>
            <a:off x="6280200" y="2133720"/>
            <a:ext cx="3151080" cy="4724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1116000" y="1800360"/>
            <a:ext cx="72010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Jesus grew </a:t>
            </a:r>
            <a:br>
              <a:rPr sz="4400"/>
            </a:b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l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116000" y="4467240"/>
            <a:ext cx="645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Look at Mark 3:13-19 and identify how Jesus chose his disciples. What can we learn from his approac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0" y="0"/>
            <a:ext cx="9144000" cy="1047600"/>
          </a:xfrm>
          <a:prstGeom prst="rect">
            <a:avLst/>
          </a:prstGeom>
          <a:solidFill>
            <a:srgbClr val="00558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Franklin Gothic Medium"/>
              </a:rPr>
              <a:t>STAGE 1 – IDENTIF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9" descr="C:\Users\jamesl\AppData\Local\Microsoft\Windows\Temporary Internet Files\Content.IE5\5DPS72JC\MP900384794[1].jpg"/>
          <p:cNvPicPr/>
          <p:nvPr/>
        </p:nvPicPr>
        <p:blipFill>
          <a:blip r:embed="rId1"/>
          <a:stretch/>
        </p:blipFill>
        <p:spPr>
          <a:xfrm>
            <a:off x="4716360" y="1484280"/>
            <a:ext cx="3343320" cy="2674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39" name="Picture 7" descr="sweets"/>
          <p:cNvPicPr/>
          <p:nvPr/>
        </p:nvPicPr>
        <p:blipFill>
          <a:blip r:embed="rId1"/>
          <a:srcRect l="6250" t="0" r="6250" b="0"/>
          <a:stretch/>
        </p:blipFill>
        <p:spPr>
          <a:xfrm>
            <a:off x="393840" y="304920"/>
            <a:ext cx="8331120" cy="62481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6796080" y="101772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9"/>
          <p:cNvSpPr/>
          <p:nvPr/>
        </p:nvSpPr>
        <p:spPr>
          <a:xfrm rot="18598200">
            <a:off x="6153120" y="4513320"/>
            <a:ext cx="180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S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 rot="2573400">
            <a:off x="1299960" y="149976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CHO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0:28:29Z</dcterms:created>
  <dc:creator>setup1-01</dc:creator>
  <dc:description/>
  <dc:language>en-US</dc:language>
  <cp:lastModifiedBy>James Lawrence</cp:lastModifiedBy>
  <dcterms:modified xsi:type="dcterms:W3CDTF">2018-08-03T11:39:09Z</dcterms:modified>
  <cp:revision>99</cp:revision>
  <dc:subject/>
  <dc:title>PowerPoint Presentation</dc:title>
</cp:coreProperties>
</file>