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918A-9277-4CD4-8016-C8FF409F89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9079-96F7-4D89-A135-C3A05914C2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38C9-4977-4522-8F79-7336DC898F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D14F-2168-4C84-813E-19C1CC6572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7BD1-0A82-4034-92C1-67818A516A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0E76-3A59-4CBC-B09C-3A7480617B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2880" y="4716000"/>
            <a:ext cx="4962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6F4A-D572-43C4-AB0B-8E89EFE2C4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7926-89CF-4353-9B6F-00A34DB1C7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1D92-268D-4B2E-A272-92F6B7B69D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 today provide some space for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929B-1FE2-4019-9BA9-5E08B398E7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FBF1-048F-4841-8C60-EC24926636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2E4C-3E27-408E-AA4E-875CF03DF5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477-77D5-45D5-8ECB-98CB489670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C494-275D-4737-8F3F-E95E07BF83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841F-9960-4081-B20B-3247834A8C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4B3F-40C3-435C-AD43-76035766E4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F0D4-8235-459E-89CF-F69EA46DB9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06B2-06AE-4A99-87C4-FC4D64C938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1A33-1B5C-4A4D-894B-A2A6488B1F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D70F-557C-4EAC-BA0F-B395680E20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019E-4362-4710-A3E3-F7AA298F8C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9BF4-B442-4B9B-B3FE-995D75977E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683F-4930-4464-81C0-D5B39492FF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2E08-254E-4ABC-8DE8-8F4E857DA9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343A-87D6-4A2C-88D4-DCF5E8DAF9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30B2-A4D6-4CE6-81BE-E41EC63AB03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5480" y="365616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arathon runnin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n whole new level Ranulph Fienne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.2 miles in Patagonia, Chile, Falklands, Sydney, Singapore, London, Cairo and New Y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6EC7-5041-4548-9AB8-96755DE85AC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5480" y="365616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6D13-9524-493E-AED0-95EF025F78C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5480" y="365616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athon runnin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whole new level Ranulph Fienn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.2 miles in Patagonia, Chile, Falklands, Sydney, Singapore, London, Cairo and New Y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80D2-9195-4B66-98FF-8127206B22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3D4B-0777-48A5-BF46-F15EC16766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2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2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6920" y="83808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72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69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72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6920" y="83808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34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070BE993-C6AF-403F-A1D7-B49DCF57C4AF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ession 1 Slide </a:t>
            </a:r>
            <a:fld id="{BC433A62-22F8-4B3A-8E75-B233FDA06DA5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86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91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93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800440"/>
            <a:ext cx="86868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PERSONALISE THE TRAINING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7960" y="36763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Spiritual gift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Style of leadership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Sphere of influenc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0" name="Picture 5" descr="Sample"/>
          <p:cNvPicPr/>
          <p:nvPr/>
        </p:nvPicPr>
        <p:blipFill>
          <a:blip r:embed="rId1"/>
          <a:stretch/>
        </p:blipFill>
        <p:spPr>
          <a:xfrm>
            <a:off x="1407960" y="517680"/>
            <a:ext cx="266724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Rectangle 7"/>
          <p:cNvSpPr/>
          <p:nvPr/>
        </p:nvSpPr>
        <p:spPr>
          <a:xfrm rot="16200000">
            <a:off x="-3066840" y="2990520"/>
            <a:ext cx="6858000" cy="87660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EP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Synagogues &amp; Churches 011"/>
          <p:cNvPicPr/>
          <p:nvPr/>
        </p:nvPicPr>
        <p:blipFill>
          <a:blip r:embed="rId1"/>
          <a:srcRect l="0" t="0" r="55100" b="0"/>
          <a:stretch/>
        </p:blipFill>
        <p:spPr>
          <a:xfrm>
            <a:off x="376200" y="311040"/>
            <a:ext cx="376416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Text Box 5"/>
          <p:cNvSpPr/>
          <p:nvPr/>
        </p:nvSpPr>
        <p:spPr>
          <a:xfrm>
            <a:off x="4284720" y="604800"/>
            <a:ext cx="446400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Franklin Gothic Book"/>
              </a:rPr>
              <a:t>Where are you now and where is God leading you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Franklin Gothic Book"/>
              </a:rPr>
              <a:t>What areas has Growing Leaders identified where you need further development in leadership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Franklin Gothic Book"/>
              </a:rPr>
              <a:t>What is your next step in this area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34160" y="404640"/>
            <a:ext cx="36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36c23"/>
                </a:solidFill>
                <a:latin typeface="Franklin Gothic Medium"/>
              </a:rPr>
              <a:t>PERSONALISE THE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76200" y="311040"/>
            <a:ext cx="83725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15"/>
          <p:cNvSpPr/>
          <p:nvPr/>
        </p:nvSpPr>
        <p:spPr>
          <a:xfrm>
            <a:off x="3124080" y="3600360"/>
            <a:ext cx="2819520" cy="2819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429000" y="3886200"/>
            <a:ext cx="2209680" cy="220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85920" y="2552760"/>
            <a:ext cx="86868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KEEP STRETCHING YOURSELF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29" name="Picture 5" descr="Sample"/>
          <p:cNvPicPr/>
          <p:nvPr/>
        </p:nvPicPr>
        <p:blipFill>
          <a:blip r:embed="rId1"/>
          <a:stretch/>
        </p:blipFill>
        <p:spPr>
          <a:xfrm>
            <a:off x="1403280" y="519120"/>
            <a:ext cx="2667240" cy="19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Oval 13"/>
          <p:cNvSpPr/>
          <p:nvPr/>
        </p:nvSpPr>
        <p:spPr>
          <a:xfrm>
            <a:off x="3886200" y="4419720"/>
            <a:ext cx="1295280" cy="121896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6"/>
          <p:cNvSpPr/>
          <p:nvPr/>
        </p:nvSpPr>
        <p:spPr>
          <a:xfrm rot="16200000">
            <a:off x="-3112200" y="3003840"/>
            <a:ext cx="6885000" cy="87624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EP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Aquare peg round hole.jpg"/>
          <p:cNvPicPr/>
          <p:nvPr/>
        </p:nvPicPr>
        <p:blipFill>
          <a:blip r:embed="rId1"/>
          <a:stretch/>
        </p:blipFill>
        <p:spPr>
          <a:xfrm>
            <a:off x="4371840" y="2781360"/>
            <a:ext cx="4772160" cy="3357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9023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LIKELY SCENARIO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978200"/>
            <a:ext cx="49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Round hole, square peg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Round hole, round peg … but stuck/weary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390920" y="476280"/>
            <a:ext cx="406872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What would help us to keep stretching/ progressing in an area of leadership where we’re a round peg in a round hole but have become weary/got stuck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What would help us if we were a square peg in a round hol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Where is your red zon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How do we avoid neglecting gifts we should be us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Synagogues &amp; Churches 011"/>
          <p:cNvPicPr/>
          <p:nvPr/>
        </p:nvPicPr>
        <p:blipFill>
          <a:blip r:embed="rId1"/>
          <a:srcRect l="0" t="0" r="55100" b="0"/>
          <a:stretch/>
        </p:blipFill>
        <p:spPr>
          <a:xfrm>
            <a:off x="376200" y="311040"/>
            <a:ext cx="376416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Rectangle 10"/>
          <p:cNvSpPr/>
          <p:nvPr/>
        </p:nvSpPr>
        <p:spPr>
          <a:xfrm>
            <a:off x="434160" y="404640"/>
            <a:ext cx="36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36c23"/>
                </a:solidFill>
                <a:latin typeface="Franklin Gothic Medium"/>
              </a:rPr>
              <a:t>PERSONALISE THE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76200" y="311040"/>
            <a:ext cx="83725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1080" y="2552760"/>
            <a:ext cx="81536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ORK OUT A RHYTHM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40" name="Picture 5" descr="Sample"/>
          <p:cNvPicPr/>
          <p:nvPr/>
        </p:nvPicPr>
        <p:blipFill>
          <a:blip r:embed="rId1"/>
          <a:stretch/>
        </p:blipFill>
        <p:spPr>
          <a:xfrm>
            <a:off x="1247760" y="457200"/>
            <a:ext cx="266688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Rectangle 6"/>
          <p:cNvSpPr/>
          <p:nvPr/>
        </p:nvSpPr>
        <p:spPr>
          <a:xfrm rot="16200000">
            <a:off x="-3066840" y="2990520"/>
            <a:ext cx="6858000" cy="87660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The clock is my dictator, I shall not rest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It makes me lie down only when exhausted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It leads me to deep depression, it hounds my soul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It leads me in circles of frenzy for activity’s sake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Even though I run frantically from task to task,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I will never get it all done. For my ‘ideal’ is with me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Deadlines and my need for approval, they drive me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They demand performance from me, beyond the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limits of my schedule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They anoint my head with migraines, my in-tray overflows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Surely fatigue and time pressure shall follow me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all the days of my life,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And I will dwell in the bonds of frustration forever.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j0315555"/>
          <p:cNvPicPr/>
          <p:nvPr/>
        </p:nvPicPr>
        <p:blipFill>
          <a:blip r:embed="rId1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j0315580"/>
          <p:cNvPicPr/>
          <p:nvPr/>
        </p:nvPicPr>
        <p:blipFill>
          <a:blip r:embed="rId2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j0315597"/>
          <p:cNvPicPr/>
          <p:nvPr/>
        </p:nvPicPr>
        <p:blipFill>
          <a:blip r:embed="rId3"/>
          <a:stretch/>
        </p:blipFill>
        <p:spPr>
          <a:xfrm>
            <a:off x="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j0315571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TIME AS COMMODITY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TIME AS ENEMY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TIME AS GIFT/FRIEND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3120" y="1267920"/>
            <a:ext cx="73659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ime is a gift, because it is God’s time, not one’s own; and time is a friend, because there is nothing to fear from what God has in store. Time is “on our side”. One cannot buy time with God. One must learn to enjoy God’s time.’</a:t>
            </a:r>
            <a:endParaRPr b="0" lang="en-US" sz="32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33480" y="4868640"/>
            <a:ext cx="2768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586"/>
                </a:solidFill>
                <a:latin typeface="Franklin Gothic Book"/>
              </a:rPr>
              <a:t>Samuel Well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8558280" y="62064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76266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</a:rPr>
              <a:t>SEVEN BASIC THEOLOGICAL/ PSYCHOLOGICAL PRINCIPLES</a:t>
            </a:r>
            <a:endParaRPr b="0" lang="en-US" sz="36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640" y="2116080"/>
            <a:ext cx="67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225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God requires that we manage our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47840" indent="-447840">
              <a:spcBef>
                <a:spcPts val="1225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e will never be more effective in our ministries and our lives than our effectiveness in managing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47840" indent="-447840">
              <a:spcBef>
                <a:spcPts val="1225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e all have the same amount of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47840" indent="-447840">
              <a:spcBef>
                <a:spcPts val="1225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e must take charge of our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8558280" y="62064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2560" y="1458720"/>
            <a:ext cx="676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Medium"/>
              </a:rPr>
              <a:t>REVIEW SESSION 8 </a:t>
            </a:r>
            <a:br>
              <a:rPr sz="3200"/>
            </a:b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EMBRACING COST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82200" y="288756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lossians 1:24-29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Reality, cost, struggl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6154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</a:rPr>
              <a:t>SEVEN BASIC THEOLOGICAL/ PSYCHOLOGICAL PRINCIPLES</a:t>
            </a:r>
            <a:endParaRPr b="0" lang="en-US" sz="36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990800"/>
            <a:ext cx="67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5586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e have all the time we need to do God’s will for our liv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5586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e are never powerless over time problem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5586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Our psychological make-up greatly influences our ability to manage tim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8558280" y="62064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356000" y="1312920"/>
            <a:ext cx="403236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What is an appropriate rhythm for your life and leadership that will help you stay fresh? Think in terms of a day, week, month, term, year and seven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ranklin Gothic Book"/>
              </a:rPr>
              <a:t>What is your next step in this are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Synagogues &amp; Churches 011"/>
          <p:cNvPicPr/>
          <p:nvPr/>
        </p:nvPicPr>
        <p:blipFill>
          <a:blip r:embed="rId1"/>
          <a:srcRect l="0" t="0" r="55100" b="0"/>
          <a:stretch/>
        </p:blipFill>
        <p:spPr>
          <a:xfrm>
            <a:off x="376200" y="311040"/>
            <a:ext cx="376416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0"/>
          <p:cNvSpPr/>
          <p:nvPr/>
        </p:nvSpPr>
        <p:spPr>
          <a:xfrm>
            <a:off x="434160" y="404640"/>
            <a:ext cx="36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36c23"/>
                </a:solidFill>
                <a:latin typeface="Franklin Gothic Medium"/>
              </a:rPr>
              <a:t>PERSONALISE THE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76200" y="311040"/>
            <a:ext cx="83725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65200" y="2552760"/>
            <a:ext cx="80028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KEEP CLOSE RELATIONSHIP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0920" y="3429000"/>
            <a:ext cx="6553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ith Go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ith a tea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ith a mento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ith pe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ith a mente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66" name="Picture 5" descr="Sample"/>
          <p:cNvPicPr/>
          <p:nvPr/>
        </p:nvPicPr>
        <p:blipFill>
          <a:blip r:embed="rId1"/>
          <a:stretch/>
        </p:blipFill>
        <p:spPr>
          <a:xfrm>
            <a:off x="1541520" y="441360"/>
            <a:ext cx="266688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Rectangle 6"/>
          <p:cNvSpPr/>
          <p:nvPr/>
        </p:nvSpPr>
        <p:spPr>
          <a:xfrm rot="16200000">
            <a:off x="-3066840" y="2990520"/>
            <a:ext cx="6858000" cy="87660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EP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4344840" y="1359000"/>
            <a:ext cx="4319640" cy="45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For each of the following relationships identify ideas for growth: God, team, mentor, peers, ment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hat is your next ste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Synagogues &amp; Churches 011"/>
          <p:cNvPicPr/>
          <p:nvPr/>
        </p:nvPicPr>
        <p:blipFill>
          <a:blip r:embed="rId1"/>
          <a:srcRect l="0" t="0" r="55100" b="0"/>
          <a:stretch/>
        </p:blipFill>
        <p:spPr>
          <a:xfrm>
            <a:off x="376200" y="311040"/>
            <a:ext cx="376416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0" name="Rectangle 10"/>
          <p:cNvSpPr/>
          <p:nvPr/>
        </p:nvSpPr>
        <p:spPr>
          <a:xfrm>
            <a:off x="434160" y="404640"/>
            <a:ext cx="36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36c23"/>
                </a:solidFill>
                <a:latin typeface="Franklin Gothic Medium"/>
              </a:rPr>
              <a:t>PERSONALISE THE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76200" y="311040"/>
            <a:ext cx="83725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8480" y="2770200"/>
            <a:ext cx="80550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COMPLETE THE COURS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58840" y="3646080"/>
            <a:ext cx="7734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tay focused on the finishing lin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tay faithful to gospel ministr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tay reliant on the power of the Spiri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74" name="Picture 5" descr="Sample"/>
          <p:cNvPicPr/>
          <p:nvPr/>
        </p:nvPicPr>
        <p:blipFill>
          <a:blip r:embed="rId1"/>
          <a:stretch/>
        </p:blipFill>
        <p:spPr>
          <a:xfrm>
            <a:off x="1235160" y="441360"/>
            <a:ext cx="266688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Rectangle 6"/>
          <p:cNvSpPr/>
          <p:nvPr/>
        </p:nvSpPr>
        <p:spPr>
          <a:xfrm rot="16200000">
            <a:off x="-3066840" y="2990520"/>
            <a:ext cx="6858000" cy="87660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EP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4284720" y="1200240"/>
            <a:ext cx="417492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hat will help you to keep your focus on running the race to the e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hat does it mean to run the race in the power of the Spir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hat is your next ste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Synagogues &amp; Churches 011"/>
          <p:cNvPicPr/>
          <p:nvPr/>
        </p:nvPicPr>
        <p:blipFill>
          <a:blip r:embed="rId1"/>
          <a:srcRect l="0" t="0" r="55100" b="0"/>
          <a:stretch/>
        </p:blipFill>
        <p:spPr>
          <a:xfrm>
            <a:off x="376200" y="311040"/>
            <a:ext cx="376416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Rectangle 10"/>
          <p:cNvSpPr/>
          <p:nvPr/>
        </p:nvSpPr>
        <p:spPr>
          <a:xfrm>
            <a:off x="434160" y="404640"/>
            <a:ext cx="36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36c23"/>
                </a:solidFill>
                <a:latin typeface="Franklin Gothic Medium"/>
              </a:rPr>
              <a:t>PERSONALISE THE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76200" y="311040"/>
            <a:ext cx="83725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280" y="29098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1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ersonalise the train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2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stretching yoursel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3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ork out a rhyth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4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close relationship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5 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lete the cours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4" descr="Sample"/>
          <p:cNvPicPr/>
          <p:nvPr/>
        </p:nvPicPr>
        <p:blipFill>
          <a:blip r:embed="rId1"/>
          <a:stretch/>
        </p:blipFill>
        <p:spPr>
          <a:xfrm>
            <a:off x="831960" y="623880"/>
            <a:ext cx="266688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MPj03413220000[1]"/>
          <p:cNvPicPr/>
          <p:nvPr/>
        </p:nvPicPr>
        <p:blipFill>
          <a:blip r:embed="rId1"/>
          <a:stretch/>
        </p:blipFill>
        <p:spPr>
          <a:xfrm>
            <a:off x="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5003640" y="1536840"/>
            <a:ext cx="388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I am not ashamed, for I know the one in whom I have put my trust, and I am sure that he is able to guard until that day what I have entrusted to him.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anklin Gothic Book"/>
              </a:rPr>
              <a:t>2 Timothy 1:12-14 (NRS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9080" y="169992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FINAL SESSIO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49080" y="2771640"/>
            <a:ext cx="824364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10: Continuing wel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enu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Before then: Meet your mento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86" name="Group 18"/>
          <p:cNvGrpSpPr/>
          <p:nvPr/>
        </p:nvGrpSpPr>
        <p:grpSpPr>
          <a:xfrm>
            <a:off x="6327720" y="0"/>
            <a:ext cx="2781360" cy="6858000"/>
            <a:chOff x="6327720" y="0"/>
            <a:chExt cx="2781360" cy="6858000"/>
          </a:xfrm>
        </p:grpSpPr>
        <p:pic>
          <p:nvPicPr>
            <p:cNvPr id="187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32772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78600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71364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Picture 13" descr=""/>
          <p:cNvPicPr/>
          <p:nvPr/>
        </p:nvPicPr>
        <p:blipFill>
          <a:blip r:embed="rId4"/>
          <a:stretch/>
        </p:blipFill>
        <p:spPr>
          <a:xfrm>
            <a:off x="324000" y="-177840"/>
            <a:ext cx="145224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43225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543800" cy="31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36c23"/>
                </a:solidFill>
                <a:latin typeface="Franklin Gothic Medium"/>
              </a:rPr>
              <a:t>SESSION 9</a:t>
            </a:r>
            <a:r>
              <a:rPr b="0" lang="en-GB" sz="6000" spc="-1" strike="noStrike">
                <a:solidFill>
                  <a:srgbClr val="f36c23"/>
                </a:solidFill>
                <a:latin typeface="Franklin Gothic Medium"/>
              </a:rPr>
              <a:t> </a:t>
            </a:r>
            <a:br>
              <a:rPr sz="6000"/>
            </a:br>
            <a:r>
              <a:rPr b="0" lang="en-GB" sz="8000" spc="-1" strike="noStrike">
                <a:solidFill>
                  <a:srgbClr val="000000"/>
                </a:solidFill>
                <a:latin typeface="Franklin Gothic Medium"/>
              </a:rPr>
              <a:t>STAYING FRESH</a:t>
            </a:r>
            <a:endParaRPr b="0" lang="en-US" sz="80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00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730920" y="3933720"/>
            <a:ext cx="2413080" cy="2924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6174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769760"/>
            <a:ext cx="6781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understand that leadership is a marathon, not a sprin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emphasise the importance of staying fres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establish a training programme for staying fres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057480" y="3919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Image result for ranulph fiennes"/>
          <p:cNvPicPr/>
          <p:nvPr/>
        </p:nvPicPr>
        <p:blipFill>
          <a:blip r:embed="rId1"/>
          <a:srcRect l="5713" t="0" r="10784" b="0"/>
          <a:stretch/>
        </p:blipFill>
        <p:spPr>
          <a:xfrm>
            <a:off x="250920" y="1076400"/>
            <a:ext cx="5290920" cy="472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Image result for ranulph fiennes"/>
          <p:cNvPicPr/>
          <p:nvPr/>
        </p:nvPicPr>
        <p:blipFill>
          <a:blip r:embed="rId2"/>
          <a:stretch/>
        </p:blipFill>
        <p:spPr>
          <a:xfrm>
            <a:off x="5796000" y="1046160"/>
            <a:ext cx="3124080" cy="47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Sir Ranulph (right) and Dr Stroud celebrate at the end of their final marathon in New York - picture by Gill Allen, copyright The Times"/>
          <p:cNvPicPr/>
          <p:nvPr/>
        </p:nvPicPr>
        <p:blipFill>
          <a:blip r:embed="rId1"/>
          <a:stretch/>
        </p:blipFill>
        <p:spPr>
          <a:xfrm>
            <a:off x="1547640" y="1411200"/>
            <a:ext cx="5980320" cy="3978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057480" y="3919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_39515041_fiennes_marathon4_map416"/>
          <p:cNvPicPr/>
          <p:nvPr/>
        </p:nvPicPr>
        <p:blipFill>
          <a:blip r:embed="rId1"/>
          <a:stretch/>
        </p:blipFill>
        <p:spPr>
          <a:xfrm>
            <a:off x="582480" y="1479600"/>
            <a:ext cx="7986960" cy="4032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3057480" y="3919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82480" y="1844640"/>
            <a:ext cx="7959960" cy="3841560"/>
          </a:xfrm>
          <a:prstGeom prst="rect">
            <a:avLst/>
          </a:prstGeom>
          <a:solidFill>
            <a:srgbClr val="0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Train yourself in godliness, for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while physical training is of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some value, godliness is valuable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in every way, holding promise for both the present life and the life to come.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anklin Gothic Medium"/>
              </a:rPr>
              <a:t>1 Timothy 4:7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j0148998"/>
          <p:cNvPicPr/>
          <p:nvPr/>
        </p:nvPicPr>
        <p:blipFill>
          <a:blip r:embed="rId1"/>
          <a:stretch/>
        </p:blipFill>
        <p:spPr>
          <a:xfrm>
            <a:off x="331920" y="311040"/>
            <a:ext cx="4168800" cy="6235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5105520" y="1735200"/>
            <a:ext cx="33526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PREPARING TO R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WEARY OR FRE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331920" y="311040"/>
            <a:ext cx="841680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14040" y="29829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1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ersonalise the train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2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stretching yoursel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3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ork out a rhyth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4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close relationship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6c23"/>
                </a:solidFill>
                <a:latin typeface="Franklin Gothic Book"/>
              </a:rPr>
              <a:t>Step 5 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lete the cours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7" name="Picture 5" descr="Sample"/>
          <p:cNvPicPr/>
          <p:nvPr/>
        </p:nvPicPr>
        <p:blipFill>
          <a:blip r:embed="rId1"/>
          <a:stretch/>
        </p:blipFill>
        <p:spPr>
          <a:xfrm>
            <a:off x="990720" y="696960"/>
            <a:ext cx="266688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9:19:37Z</dcterms:created>
  <dc:creator>Simon</dc:creator>
  <dc:description/>
  <dc:language>en-US</dc:language>
  <cp:lastModifiedBy>James Lawrence</cp:lastModifiedBy>
  <dcterms:modified xsi:type="dcterms:W3CDTF">2018-08-03T11:46:49Z</dcterms:modified>
  <cp:revision>105</cp:revision>
  <dc:subject/>
  <dc:title>PowerPoint Presentation</dc:title>
</cp:coreProperties>
</file>