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0DC-6FBF-47CE-8DDD-3A4F87BE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589-FB09-460A-919C-1BE17712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153-8A1B-498E-9893-5EED432F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652-5281-496F-8D83-188DDA45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AC97-AB0C-41EE-84D6-BD39F4C9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C82E-0F08-4421-B761-0CBE31CA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96B3-AD9D-4B55-82BD-5688C4F6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866C-6A72-4188-B63E-795E2AD5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FB43-3BB9-4E68-9526-9F7D011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F756-70BE-4EF1-8581-32A1B2D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603A-DB57-4CA3-84B7-E94E639B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B95-1A98-4E8F-9FC1-A8F6223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E96A-1349-41F7-A630-498E54F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068C-2628-4065-8844-403B372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A3A9-0737-45D4-BE4F-7FCC4533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83BF-2097-48EF-8887-8860F743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3925-83AB-471C-A8CC-12AEFFD8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D07-BF20-4C0E-8A8B-08CB9B24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103-4CEE-4482-A608-ABFF8BE2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1A7-166C-4077-80C9-E83194AC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B09-5398-4184-AED9-95116903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0E3-CBFB-4191-BC85-E3BF84A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217-BD68-41B1-BE25-2C9DF771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97A-9678-4319-8035-0882A289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AD2-5E18-4E8B-9941-721F80C0E4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8B78-E35F-4472-9AC8-693F577D3EE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j01784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457200" y="4572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Kristen ITC"/>
              </a:rPr>
              <a:t>Psalm 139</a:t>
            </a:r>
            <a:r>
              <a:rPr b="0" lang="en-GB" sz="5400" spc="-1" strike="noStrike">
                <a:solidFill>
                  <a:srgbClr val="000000"/>
                </a:solidFill>
                <a:latin typeface="Benguiat Bk BT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0182763"/>
          <p:cNvPicPr/>
          <p:nvPr/>
        </p:nvPicPr>
        <p:blipFill>
          <a:blip r:embed="rId1"/>
          <a:srcRect l="10837" t="5398" r="0" b="0"/>
          <a:stretch/>
        </p:blipFill>
        <p:spPr>
          <a:xfrm>
            <a:off x="0" y="-457200"/>
            <a:ext cx="9372600" cy="7683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5638680" y="10666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here could I get away from your presenc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j0178717"/>
          <p:cNvPicPr/>
          <p:nvPr/>
        </p:nvPicPr>
        <p:blipFill>
          <a:blip r:embed="rId1"/>
          <a:stretch/>
        </p:blipFill>
        <p:spPr>
          <a:xfrm>
            <a:off x="0" y="0"/>
            <a:ext cx="9144000" cy="7207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04920" y="213372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f I went up to heaven, you would be there;</a:t>
            </a:r>
            <a:r>
              <a:rPr b="1" lang="en-GB" sz="5400" spc="-1" strike="noStrike">
                <a:solidFill>
                  <a:srgbClr val="000000"/>
                </a:solidFill>
                <a:latin typeface="Futura Lt BT"/>
              </a:rPr>
              <a:t>             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PH01381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152280" y="403848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f I lay down                                          in the world of the dead,                             you would be the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j0149069"/>
          <p:cNvPicPr/>
          <p:nvPr/>
        </p:nvPicPr>
        <p:blipFill>
          <a:blip r:embed="rId1"/>
          <a:srcRect l="0" t="7776" r="5837" b="0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533520" y="48769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f I flew away beyond the eas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8" descr="j0179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26"/>
          <p:cNvSpPr/>
          <p:nvPr/>
        </p:nvSpPr>
        <p:spPr>
          <a:xfrm>
            <a:off x="457200" y="4724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or lived in the farthest place in the west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j01789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152280" y="3049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would be there to lead me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987640" y="484344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would be there to help m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6" descr="j0178832"/>
          <p:cNvPicPr/>
          <p:nvPr/>
        </p:nvPicPr>
        <p:blipFill>
          <a:blip r:embed="rId1"/>
          <a:srcRect l="11663" t="0" r="0" b="11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28"/>
          <p:cNvSpPr/>
          <p:nvPr/>
        </p:nvSpPr>
        <p:spPr>
          <a:xfrm>
            <a:off x="6095880" y="53352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created every part     of    me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26" descr="j0178832"/>
          <p:cNvPicPr/>
          <p:nvPr/>
        </p:nvPicPr>
        <p:blipFill>
          <a:blip r:embed="rId1"/>
          <a:srcRect l="11663" t="0" r="0" b="11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27"/>
          <p:cNvSpPr/>
          <p:nvPr/>
        </p:nvSpPr>
        <p:spPr>
          <a:xfrm>
            <a:off x="5791320" y="609480"/>
            <a:ext cx="3124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put me together in my mother’s womb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j0177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457200" y="762120"/>
            <a:ext cx="304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 praise you because you are to be feared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j0177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95280" y="2205000"/>
            <a:ext cx="419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all you do is strange and wonderful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j0262706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304920" y="838080"/>
            <a:ext cx="3886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Lord, you have examined me and you know me</a:t>
            </a:r>
            <a:r>
              <a:rPr b="0" lang="en-GB" sz="5400" spc="-1" strike="noStrike">
                <a:solidFill>
                  <a:srgbClr val="ffffff"/>
                </a:solidFill>
                <a:latin typeface="Bradley Hand IT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j0177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826920" y="1844640"/>
            <a:ext cx="266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 know it with all my heart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10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100" descr="PH03143I"/>
          <p:cNvPicPr/>
          <p:nvPr/>
        </p:nvPicPr>
        <p:blipFill>
          <a:blip r:embed="rId1"/>
          <a:stretch/>
        </p:blipFill>
        <p:spPr>
          <a:xfrm>
            <a:off x="0" y="0"/>
            <a:ext cx="4962600" cy="7086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098"/>
          <p:cNvSpPr/>
          <p:nvPr/>
        </p:nvSpPr>
        <p:spPr>
          <a:xfrm>
            <a:off x="4114800" y="380880"/>
            <a:ext cx="4876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hen my bones were being formed, carefully put together in my mother’s womb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j017852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0" y="30492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when I was growing there in secret, you knew I was there – you saw</a:t>
            </a:r>
            <a:r>
              <a:rPr b="1" lang="en-GB" sz="5400" spc="-1" strike="noStrike">
                <a:solidFill>
                  <a:srgbClr val="000000"/>
                </a:solidFill>
                <a:latin typeface="Futura Lt BT"/>
              </a:rPr>
              <a:t>                        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435640" y="2971800"/>
            <a:ext cx="355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me before I was born</a:t>
            </a:r>
            <a:r>
              <a:rPr b="1" lang="en-GB" sz="54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PH01557J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5638680" y="609480"/>
            <a:ext cx="3200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Examine me,        O God and know my mind;</a:t>
            </a:r>
            <a:r>
              <a:rPr b="1" lang="en-GB" sz="6000" spc="-1" strike="noStrike">
                <a:solidFill>
                  <a:srgbClr val="ffffff"/>
                </a:solidFill>
                <a:latin typeface="Futura Lt BT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H01557J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334120" y="914400"/>
            <a:ext cx="358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test me, and discover my thought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H01557J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5943600" y="533520"/>
            <a:ext cx="2819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  </a:t>
            </a: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Find out if there is any evil in m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j017853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5029200" y="7621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and guide me in the everlasting way</a:t>
            </a:r>
            <a:r>
              <a:rPr b="1" lang="en-GB" sz="54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8600" y="167652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know everything         I do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PH01973J"/>
          <p:cNvPicPr/>
          <p:nvPr/>
        </p:nvPicPr>
        <p:blipFill>
          <a:blip r:embed="rId1"/>
          <a:srcRect l="0" t="3333" r="0" b="4449"/>
          <a:stretch/>
        </p:blipFill>
        <p:spPr>
          <a:xfrm>
            <a:off x="4129200" y="0"/>
            <a:ext cx="5014800" cy="70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PH01973J"/>
          <p:cNvPicPr/>
          <p:nvPr/>
        </p:nvPicPr>
        <p:blipFill>
          <a:blip r:embed="rId1"/>
          <a:srcRect l="0" t="3333" r="0" b="4449"/>
          <a:stretch/>
        </p:blipFill>
        <p:spPr>
          <a:xfrm>
            <a:off x="4129200" y="762120"/>
            <a:ext cx="501480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-152280" y="762120"/>
            <a:ext cx="5181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from far     away you understand     all my  thought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1028" descr="ph03814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9"/>
          <p:cNvSpPr/>
          <p:nvPr/>
        </p:nvSpPr>
        <p:spPr>
          <a:xfrm>
            <a:off x="609480" y="1522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see me,</a:t>
            </a:r>
            <a:r>
              <a:rPr b="1" lang="en-GB" sz="5400" spc="-1" strike="noStrike">
                <a:solidFill>
                  <a:srgbClr val="ffffff"/>
                </a:solidFill>
                <a:latin typeface="Futura Lt BT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30"/>
          <p:cNvSpPr/>
          <p:nvPr/>
        </p:nvSpPr>
        <p:spPr>
          <a:xfrm>
            <a:off x="5105520" y="609480"/>
            <a:ext cx="3809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hether I am working or resting; you know all my actions.</a:t>
            </a:r>
            <a:r>
              <a:rPr b="0" lang="en-GB" sz="5400" spc="-1" strike="noStrike">
                <a:solidFill>
                  <a:srgbClr val="ffffff"/>
                </a:solidFill>
                <a:latin typeface="Futura Lt BT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j01786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380880" y="533520"/>
            <a:ext cx="43354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Even before I speak,        you already know           what I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ill sa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H03737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304920" y="48769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protect me with your pow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0880" y="3049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 are all round me   on every side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j0178845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0" y="4952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it is beyond my understand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304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Your knowledge is too deep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j0182763"/>
          <p:cNvPicPr/>
          <p:nvPr/>
        </p:nvPicPr>
        <p:blipFill>
          <a:blip r:embed="rId1"/>
          <a:srcRect l="10837" t="5398" r="0" b="0"/>
          <a:stretch/>
        </p:blipFill>
        <p:spPr>
          <a:xfrm>
            <a:off x="0" y="-380880"/>
            <a:ext cx="9372600" cy="7683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 rot="1200">
            <a:off x="6247800" y="762120"/>
            <a:ext cx="2738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Kristen ITC"/>
              </a:rPr>
              <a:t>Where could I go to escape from you?</a:t>
            </a:r>
            <a:r>
              <a:rPr b="1" lang="en-GB" sz="5400" spc="-1" strike="noStrike">
                <a:solidFill>
                  <a:srgbClr val="000000"/>
                </a:solidFill>
                <a:latin typeface="Futura Lt BT"/>
              </a:rPr>
              <a:t>                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mes Lawrence</cp:lastModifiedBy>
  <dcterms:modified xsi:type="dcterms:W3CDTF">2018-08-03T13:34:59Z</dcterms:modified>
  <cp:revision>13</cp:revision>
  <dc:subject/>
  <dc:title>PowerPoint Presentation</dc:title>
</cp:coreProperties>
</file>